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62BD-9528-4C3D-980F-6AED02A9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A149-B39C-4788-B263-B2F441D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BA54-045B-417B-B2B5-78550F6C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25FD-B405-4149-AD84-7E5E31B4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30CB-C084-4D08-BDEA-6ACCB652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DD4-3B38-4280-AEEB-A76500F9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358-849F-418B-BCC9-3D640392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D69F-6CE1-477E-8C19-1744D39E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7DDC-C61A-4FD8-A586-C800C00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69E-5329-4297-8190-0262030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0BB-7DCC-4B18-86FF-73FD895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FD03-5CDE-4318-8DB1-F3A00E4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D71-6CF9-4982-AB92-9F77A74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A5DA-59C3-432F-AF78-8940747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09BA-8132-4E29-A14D-986E3DD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2A6A-A993-4368-96E9-FDD76120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45D-5E57-4930-BB97-6BAAA04B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4360-567B-4168-A6BF-9F50800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01A8-4012-458F-8F96-1E09783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7847-87F2-4232-A730-7A57535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DC59-E982-4997-9A41-E317AE7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352E-D676-4D9B-9417-72A5AF6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D1BB-F940-4F42-B8F0-F6C5C1F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C444-F830-44F6-A5D7-3CCE378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1AE-255D-46A7-88FC-911D75F93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AB77-F8AC-454B-9DDC-F4F98FB2F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Dutch way to stay in FIFA top “3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interview and information provided by: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van Geijn                                    KNVB                                              Manager, International Proj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ch FA Coaching Staf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national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district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regional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coaches “influence” all youth coaches, officials and other volunteers in the 3,000 club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Dutch Wa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coa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vidual  and team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development is a joint responsibility of the Association and 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st players pl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gain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ed players have about 6 training sessions and 1 or 2 competitive games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educated and football experienced coaches for talented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th Development as a joined respons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844640"/>
            <a:ext cx="25192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 team Premier Leag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0 team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Profess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844640"/>
            <a:ext cx="576000" cy="3960720"/>
          </a:xfrm>
          <a:prstGeom prst="upArrow">
            <a:avLst>
              <a:gd name="adj1" fmla="val 50000"/>
              <a:gd name="adj2" fmla="val 171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916280"/>
            <a:ext cx="1726920" cy="29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–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221000"/>
            <a:ext cx="144000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8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6 Distric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789360"/>
            <a:ext cx="1728720" cy="2089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877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76720" y="242100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2492280"/>
            <a:ext cx="36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276360" y="2637000"/>
            <a:ext cx="367164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276360" y="2781000"/>
            <a:ext cx="367164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76360" y="2852280"/>
            <a:ext cx="36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276720" y="2923920"/>
            <a:ext cx="3743280" cy="793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276720" y="2997360"/>
            <a:ext cx="374328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6720" y="3068640"/>
            <a:ext cx="3814560" cy="122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000" y="4076640"/>
            <a:ext cx="475164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450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87640" y="328464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2920" y="3284280"/>
            <a:ext cx="2376360" cy="165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5084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627280" y="3284280"/>
            <a:ext cx="2664000" cy="21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558972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40360" y="4365720"/>
            <a:ext cx="115272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tball Association and Clu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tball Asso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gue Organi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Talent Scouting from U/11 to U/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aching Acade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Organised Football Lea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ub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 Sc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mod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alented Players Playing With The Be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team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- U/15, U/16, U/17, U/18, U/19, U/20, U/21, Sen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8, U/19, Se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trict teams (6 Districts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, U/14, U/15 (1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5 (12 teams in each district), U/17 (4 teams in each district) U/19 (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onal teams within the distric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 (60 teams), U/14 (24 teams), U/15 (12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3 (24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tional Youth Leagues                     (playing against the best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Youth Leagues: U/19, U/17, U/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421000"/>
            <a:ext cx="4465800" cy="3313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m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x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, et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onal Youth Leag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Leagues in each Distri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9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7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v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9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7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ed club football from the age of 5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1989000"/>
            <a:ext cx="647640" cy="2087640"/>
          </a:xfrm>
          <a:custGeom>
            <a:avLst/>
            <a:gdLst>
              <a:gd name="textAreaLeft" fmla="*/ 0 w 647640"/>
              <a:gd name="textAreaRight" fmla="*/ 234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149720"/>
            <a:ext cx="647640" cy="792000"/>
          </a:xfrm>
          <a:custGeom>
            <a:avLst/>
            <a:gdLst>
              <a:gd name="textAreaLeft" fmla="*/ 0 w 647640"/>
              <a:gd name="textAreaRight" fmla="*/ 234000 w 647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0640" y="42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v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522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0640" y="5013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v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veloping Coach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2737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ach Professional Foot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2428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284640"/>
            <a:ext cx="13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3284640"/>
            <a:ext cx="136836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933720"/>
            <a:ext cx="27370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79736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Coach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157720"/>
            <a:ext cx="136872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5157720"/>
            <a:ext cx="136836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1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P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0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869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liminar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95640" y="44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95640" y="357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95640" y="2565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4370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73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2565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based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f football: Organisational, strategic and tactical team building (aim – winning the ga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coaching: Players themselves have to become more and more responsible for solving the football problems (dependent – independ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educa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is most efficient in a practical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ng is facilitating of learning in the practical context (clu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fying is confirming that someone has the required compe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nces are not static: coaches have to keep on developing (life l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KNV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KNVB is the governing body in the Nether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have a professional arm and an amateur a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ofessional side has two divisions, the Premier Division with 18 clubs and the first division with 20 clubs. It is not possible for a professional club to get demoted to the Amateur league unless they lose their licence due to financial difficulties etc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mateur club can then apply to become a professional club. It is not a first past the post promotion system like in Engl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16 mill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tball is the number 1 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8 professional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000 amateur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1 million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0,000 are youth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office is in Ze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District off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 2005/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A ranking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World Cup Qualification group in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Under 17 World Championship in Pe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final – World Championship in the Netherla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21 European Champ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                     The National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4 – Runner up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8 – Runner up World Cup Argen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8 – European Champion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4 – Quarter final World Cup 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6 – Quarter final Euro 96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8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orld Cup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0 – Semi finalist Euro 00 Holland/Belg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4 – Semi finalist Euro 04 Portu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6 – Round of 16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ub Te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yenoor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0, 1974, 20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ld Club Champions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jax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1, 1972, 1973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7, 1992, 1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V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8, 198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mi final Champions League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ome) Good players developing to become good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P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Cruyff (European player of the centu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co van Basten (2006: coach of the National tea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k Rijkaard (2006: coach of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Neeskans (2006: assistant coach -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ald Koeman (2006: coach of PSV – Eindhov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Gull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nis Bergkamp, Edgar Davids, Patrick Kluivert, Clarence Seedorf (generation 1995 –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van Nistelrooy, Dirk Huyt, Rafael van der Vaart, Arjen Robben (generation 2004 –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Coa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nus Michels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is van Gaal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o Beenhakker (Ajax, Real Madrid, The Netherlands, Trinidad and Tobago, Po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us Hiddink (PSV, Valencia, The Netherlands, South Korea, Australia,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ck Advocaat (The Netherlands, PSV, Glasgow Rangers, South Korea, Zenith St. Petersburg)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9:46:09Z</dcterms:created>
  <dc:creator>Alistair Edwards</dc:creator>
  <dc:description/>
  <dc:language>en-US</dc:language>
  <cp:lastModifiedBy>Alistair Edwards</cp:lastModifiedBy>
  <dcterms:modified xsi:type="dcterms:W3CDTF">2006-10-08T11:00:39Z</dcterms:modified>
  <cp:revision>13</cp:revision>
  <dc:subject/>
  <dc:title>The Dutch way to stay in FIFA top “3”</dc:title>
</cp:coreProperties>
</file>