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BDD74-60D2-4C68-8FB0-BCCCC1B4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4DC52-71A9-4771-9706-55CDF7E6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C88DA-0D91-4396-881C-BC57A56C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CA0F2-3E66-4A39-9973-71A005E3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1FB8-F354-4132-8614-922FA98F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91B0-E8A6-4FA8-BAB8-8F882EA5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2722-4C56-4B6F-A147-2CF3F320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67FD-1998-4870-B4EC-639CA579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114A-F87A-45A9-AFB1-FDEB86B7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10EE-C78D-4214-A478-A0D6B1D2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A492-AFDD-4BDF-8584-18F8081F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54E8B-1C24-42C3-9DCD-DC2B66D9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ADD0-0BC3-4E72-A773-CAF2F293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4616-F3CF-4BA8-8875-24F41356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779E-80EE-4135-AEFD-83D589FD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A12A-D2DA-4794-BB35-C42CF6F6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C210-EF9B-46A7-BDBA-911C9CC3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7E3D7-0B34-4977-A995-19976F4D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D8A8F-F9B2-45FA-8AC7-E6FE0CAA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AAD69-1E6E-4343-947E-8216113D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099EB-BD3C-41F1-8793-232CF6AB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9C4DF-EC53-46B7-A6BA-D9995FC3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DE6C3-5460-4046-B14C-69F76C79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BA52B-ACE3-4365-9AED-ABECF365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7121-6500-41E1-91BB-B7E87D3409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8B5A-1FD7-4589-8D2B-C2FA855B3A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he Dutch way to stay in FIFA top “3”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13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om interview and information provided by: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han van Geijn                                    KNVB                                              Manager, International Projec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utch FA Coaching Staff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 national staff c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 district staff c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 regional c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coaches “influence” all youth coaches, officials and other volunteers in the 3,000 club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Dutch Wa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elop the play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elop the coach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ividual  and team develop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th development is a joint responsibility of the Association and the Club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est players pla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gain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e b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lented players have about 6 training sessions and 1 or 2 competitive games per we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ll educated and football experienced coaches for talented play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Youth Development as a joined responsibilit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844640"/>
            <a:ext cx="2519280" cy="1297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8 team Premier Leag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0 team first Div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Profess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1844640"/>
            <a:ext cx="576000" cy="3960720"/>
          </a:xfrm>
          <a:prstGeom prst="upArrow">
            <a:avLst>
              <a:gd name="adj1" fmla="val 50000"/>
              <a:gd name="adj2" fmla="val 17190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dividual p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1916280"/>
            <a:ext cx="1726920" cy="2952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 –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4221000"/>
            <a:ext cx="1440000" cy="1584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/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77080" y="4869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KVNB (Na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5805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KVNB (6 Distric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789360"/>
            <a:ext cx="1728720" cy="208908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mateu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u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5877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U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276720" y="2421000"/>
            <a:ext cx="3743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276360" y="2492280"/>
            <a:ext cx="3671640" cy="144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276360" y="2637000"/>
            <a:ext cx="3671640" cy="28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276360" y="2781000"/>
            <a:ext cx="3671640" cy="43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276360" y="2852280"/>
            <a:ext cx="3671640" cy="576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3276720" y="2923920"/>
            <a:ext cx="3743280" cy="793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276720" y="2997360"/>
            <a:ext cx="3743280" cy="1008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276720" y="3068640"/>
            <a:ext cx="3814560" cy="1225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000" y="4076640"/>
            <a:ext cx="4751640" cy="216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339640" y="450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987640" y="3284640"/>
            <a:ext cx="2232000" cy="1008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842920" y="3284280"/>
            <a:ext cx="2376360" cy="1657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484000" y="5084640"/>
            <a:ext cx="2808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627280" y="3284280"/>
            <a:ext cx="2664000" cy="21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700000" y="5589720"/>
            <a:ext cx="2663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940360" y="4365720"/>
            <a:ext cx="1152720" cy="71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otball Association and Club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tball Associ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gue Organis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ional Youth Development Progr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ional Youth Te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ional Talent Scouting from U/11 to U/2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aching Academ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lub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ticipation in Organised Football Leag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lub Youth Development Progr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lent Scou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ommod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alented Players Playing With The Bes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tional team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oys - U/15, U/16, U/17, U/18, U/19, U/20, U/21, Seni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irls – U/18, U/19, Seni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strict teams (6 Districts)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oys – U/13, U/14, U/15 (12 teams in each distric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irls – U/15 (12 teams in each district), U/17 (4 teams in each district) U/19 (2 teams in each distric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gional teams within the district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oys – U/13 (60 teams), U/14 (24 teams), U/15 (12 team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irls – U/13 (24 team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ational Youth Leagues                     (playing against the best)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tional Youth Leagues: U/19, U/17, U/1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2421000"/>
            <a:ext cx="4465800" cy="331308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m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----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 x First Div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tc., etc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gional Youth Leag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th Leagues in each Distri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19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17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1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1 v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13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1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9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7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6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sed club football from the age of 5!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2556000" y="1989000"/>
            <a:ext cx="647640" cy="2087640"/>
          </a:xfrm>
          <a:custGeom>
            <a:avLst/>
            <a:gdLst>
              <a:gd name="textAreaLeft" fmla="*/ 0 w 647640"/>
              <a:gd name="textAreaRight" fmla="*/ 234000 w 6476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4149720"/>
            <a:ext cx="647640" cy="792000"/>
          </a:xfrm>
          <a:custGeom>
            <a:avLst/>
            <a:gdLst>
              <a:gd name="textAreaLeft" fmla="*/ 0 w 647640"/>
              <a:gd name="textAreaRight" fmla="*/ 234000 w 64764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30640" y="42958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7 v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522936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30640" y="5013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v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veloping Coach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ructu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2060640"/>
            <a:ext cx="2737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ach Professional Footb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2924280"/>
            <a:ext cx="273708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rainer – Coach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3284640"/>
            <a:ext cx="1368720" cy="288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mate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5640" y="3284640"/>
            <a:ext cx="1368360" cy="288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You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3933720"/>
            <a:ext cx="273708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rainer – Coach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4797360"/>
            <a:ext cx="273708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rainer Coach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5157720"/>
            <a:ext cx="1368720" cy="35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mate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95640" y="5157720"/>
            <a:ext cx="1368360" cy="35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You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03640" y="2133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EFA PR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299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EFA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03640" y="4005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EFA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486900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liminary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195640" y="4436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195640" y="357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195640" y="256500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68360" y="4437000"/>
            <a:ext cx="11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per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68360" y="3573360"/>
            <a:ext cx="11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per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68360" y="2565360"/>
            <a:ext cx="11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per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haracteristics of Coach Developmen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sion based 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sion of football: Organisational, strategic and tactical team building (aim – winning the gam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sion on coaching: Players themselves have to become more and more responsible for solving the football problems (dependent – independen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haracteristics of Coach Developmen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sion on educatio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rning is most efficient in a practical situ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ducating is facilitating of learning in the practical context (club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ualifying is confirming that someone has the required compet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etences are not static: coaches have to keep on developing (life lon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KNVB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KNVB is the governing body in the Netherla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have a professional arm and an amateur ar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professional side has two divisions, the Premier Division with 18 clubs and the first division with 20 clubs. It is not possible for a professional club to get demoted to the Amateur league unless they lose their licence due to financial difficulties etc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 Amateur club can then apply to become a professional club. It is not a first past the post promotion system like in Engla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Netherla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pulation 16 mill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tball is the number 1 s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8 professional club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,000 amateur club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1 million play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80,000 are youth play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tional office is in Ze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 District offic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Netherlands 2005/2006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A ranking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n World Cup Qualification group in 20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- Under 17 World Championship in Per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rter final – World Championship in the Netherla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der 21 European Champ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nternational Success                     The National Tea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74 – Runner up World Cup Germa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78 – Runner up World Cup Argenti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88 – European Champion Germa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94 – Quarter final World Cup US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96 – Quarter final Euro 96 Engl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98 –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orld Cup Fr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00 – Semi finalist Euro 00 Holland/Belgi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04 – Semi finalist Euro 04 Portug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06 – Round of 16 World Cup Germa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nternational Succes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lub Team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yenoord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uropean Cup winners 1970, 1974, 200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orld Club Champions 197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jax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uropean Cup winners 1971, 1972, 1973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87, 1992, 199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SV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uropean Cup winners 1978, 198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mi final Champions League 20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ccess attributed to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best play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cellent c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some) Good players developing to become good c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ld Class Play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han Cruyff (European player of the centur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co van Basten (2006: coach of the National tea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ank Rijkaard (2006: coach of FC Barcelon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han Neeskans (2006: assistant coach - FC Barcelon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nald Koeman (2006: coach of PSV – Eindhove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ud Gull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nis Bergkamp, Edgar Davids, Patrick Kluivert, Clarence Seedorf (generation 1995 – 2004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ud van Nistelrooy, Dirk Huyt, Rafael van der Vaart, Arjen Robben (generation 2004 – 201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ld Class Coach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nus Michels (Ajax, FC Barcelona, The Netherland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uis van Gaal (Ajax, FC Barcelona, The Netherland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o Beenhakker (Ajax, Real Madrid, The Netherlands, Trinidad and Tobago, Pol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uus Hiddink (PSV, Valencia, The Netherlands, South Korea, Australia, Russ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ck Advocaat (The Netherlands, PSV, Glasgow Rangers, South Korea, Zenith St. Petersburg)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9:46:09Z</dcterms:created>
  <dc:creator>Alistair Edwards</dc:creator>
  <dc:description/>
  <dc:language>en-US</dc:language>
  <cp:lastModifiedBy>Alistair Edwards</cp:lastModifiedBy>
  <dcterms:modified xsi:type="dcterms:W3CDTF">2006-10-08T11:00:39Z</dcterms:modified>
  <cp:revision>13</cp:revision>
  <dc:subject/>
  <dc:title>The Dutch way to stay in FIFA top “3”</dc:title>
</cp:coreProperties>
</file>