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9B00-1399-4DDE-8751-684F34C1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82BE9-C9E6-4937-AD51-DF80646F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C6F7-7F47-43E8-942D-65CD61F5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AF13-C11E-4037-8444-83144CA9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5415-BFA0-4DCE-BB47-254D9F6E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3AA3-5497-427C-9742-F5487540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99A2-4366-4B8E-A474-0DE1D74B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1F4C-1AAF-48BA-B9DF-F8F0001B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6D20-4367-4786-84C7-72C7416D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57C4-9204-4338-8ECD-7209BCAA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5E51-ADCF-4DCA-B64C-C203D40E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0B17-6B2B-43BD-8B94-FD7F67AC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14B3-8487-4181-A0B6-E84D30FD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38AF-1466-4044-84D4-EF92A557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9EDA-9B02-422C-8D0C-608561A1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DFDF-0DAF-42BA-B821-BC5032B0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63A6-8B82-47CE-9AAF-DE9031EC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110A-240C-4D78-9646-D4A58DD2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7022-9159-4997-B392-7F0CD6A0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3FD8-D0C1-4530-86C7-65A7E2EF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175B-2193-4F1A-8EC4-CDC53D4B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8E631-6DD0-497E-8CB8-6CBAC63E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7DF7-5DD7-422C-B771-8239E206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0FD7-7E1F-47DE-A451-1ADCFD15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8F28-3769-4D23-AEC7-15035B79E1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C554-0597-4884-BA60-A38467C9F4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Dutch way to stay in FIFA top “3”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13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om interview and information provided by: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an van Geijn                                    KNVB                                              Manager, International Projec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utch FA Coaching Staff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 national staff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 district staff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 regional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coaches “influence” all youth coaches, officials and other volunteers in the 3,000 club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Dutch Wa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 the play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 the coa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vidual  and team develo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th development is a joint responsibility of the Association and the Clu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est players pl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gain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b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lented players have about 6 training sessions and 1 or 2 competitive games per we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ll educated and football experienced coaches for talented play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Youth Development as a joined responsibilit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844640"/>
            <a:ext cx="251928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8 team Premier Leag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0 team first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Profess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1844640"/>
            <a:ext cx="576000" cy="3960720"/>
          </a:xfrm>
          <a:prstGeom prst="upArrow">
            <a:avLst>
              <a:gd name="adj1" fmla="val 50000"/>
              <a:gd name="adj2" fmla="val 17190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ividual p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1916280"/>
            <a:ext cx="1726920" cy="2952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 –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4221000"/>
            <a:ext cx="1440000" cy="1584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486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VNB (Na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5805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VNB (6 Distric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789360"/>
            <a:ext cx="1728720" cy="20890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ate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u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877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U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276720" y="2421000"/>
            <a:ext cx="3743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276360" y="2492280"/>
            <a:ext cx="3671640" cy="144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276360" y="2637000"/>
            <a:ext cx="367164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276360" y="2781000"/>
            <a:ext cx="367164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276360" y="2852280"/>
            <a:ext cx="3671640" cy="5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276720" y="2923920"/>
            <a:ext cx="3743280" cy="793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276720" y="2997360"/>
            <a:ext cx="3743280" cy="1008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276720" y="3068640"/>
            <a:ext cx="3814560" cy="122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000" y="4076640"/>
            <a:ext cx="4751640" cy="21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39640" y="450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987640" y="3284640"/>
            <a:ext cx="2232000" cy="1008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842920" y="3284280"/>
            <a:ext cx="2376360" cy="1657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484000" y="508464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627280" y="3284280"/>
            <a:ext cx="2664000" cy="21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700000" y="5589720"/>
            <a:ext cx="2663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940360" y="4365720"/>
            <a:ext cx="1152720" cy="7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tball Association and Club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tball Assoc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gue Organis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 Youth Development Pr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 Youth Te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 Talent Scouting from U/11 to U/2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aching Acade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lu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ticipation in Organised Football Leag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ub Youth Development Pr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lent Scou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mmod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alented Players Playing With The Bes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ional team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ys - U/15, U/16, U/17, U/18, U/19, U/20, U/21, Seni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rls – U/18, U/19, Seni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trict teams (6 Districts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ys – U/13, U/14, U/15 (12 teams in each distric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rls – U/15 (12 teams in each district), U/17 (4 teams in each district) U/19 (2 teams in each distric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gional teams within the district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ys – U/13 (60 teams), U/14 (24 teams), U/15 (12 team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rls – U/13 (24 team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ational Youth Leagues                     (playing against the best)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tional Youth Leagues: U/19, U/17, U/1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2421000"/>
            <a:ext cx="4465800" cy="33130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m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 x First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tc., etc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gional Youth Leag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th Leagues in each Distri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9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7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1 v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3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9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7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6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sed club football from the age of 5!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1989000"/>
            <a:ext cx="647640" cy="2087640"/>
          </a:xfrm>
          <a:custGeom>
            <a:avLst/>
            <a:gdLst>
              <a:gd name="textAreaLeft" fmla="*/ 0 w 647640"/>
              <a:gd name="textAreaRight" fmla="*/ 234000 w 647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4149720"/>
            <a:ext cx="647640" cy="792000"/>
          </a:xfrm>
          <a:custGeom>
            <a:avLst/>
            <a:gdLst>
              <a:gd name="textAreaLeft" fmla="*/ 0 w 647640"/>
              <a:gd name="textAreaRight" fmla="*/ 234000 w 647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30640" y="4295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 v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522936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30640" y="5013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v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veloping Coach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ructu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060640"/>
            <a:ext cx="2737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ach Professional Foot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924280"/>
            <a:ext cx="273708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rainer – Coach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3284640"/>
            <a:ext cx="1368720" cy="28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ate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3284640"/>
            <a:ext cx="1368360" cy="28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ou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3933720"/>
            <a:ext cx="273708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rainer – Coach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4797360"/>
            <a:ext cx="273708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rainer Coach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5157720"/>
            <a:ext cx="1368720" cy="35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ate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95640" y="5157720"/>
            <a:ext cx="1368360" cy="35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ou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03640" y="2133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EFA P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29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EFA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400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EFA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4869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liminary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195640" y="4436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195640" y="357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95640" y="25650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443700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er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68360" y="357336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er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8360" y="256536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er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aracteristics of Coach Developmen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ion based 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ion of football: Organisational, strategic and tactical team building (aim – winning the gam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ion on coaching: Players themselves have to become more and more responsible for solving the football problems (dependent – independen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aracteristics of Coach Developmen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ion on educa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ing is most efficient in a practical situ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ucating is facilitating of learning in the practical context (club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lifying is confirming that someone has the required compet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etences are not static: coaches have to keep on developing (life lo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KNVB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KNVB is the governing body in the Netherla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have a professional arm and an amateur ar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rofessional side has two divisions, the Premier Division with 18 clubs and the first division with 20 clubs. It is not possible for a professional club to get demoted to the Amateur league unless they lose their licence due to financial difficulties etc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 Amateur club can then apply to become a professional club. It is not a first past the post promotion system like in Engla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Netherla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pulation 16 mill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tball is the number 1 s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8 professional clu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,000 amateur clu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1 million play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80,000 are youth play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tional office is in Ze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District offi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Netherlands 2005/200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A ranking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 World Cup Qualification group in 20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- Under 17 World Championship in Pe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rter final – World Championship in the Netherla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er 21 European Champ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ternational Success                     The National Tea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74 – Runner up World Cup Germa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78 – Runner up World Cup Argent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88 – European Champion Germa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94 – Quarter final World Cup U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96 – Quarter final Euro 96 Eng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98 –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orld Cup Fr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00 – Semi finalist Euro 00 Holland/Belgi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04 – Semi finalist Euro 04 Portug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06 – Round of 16 World Cup Germa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ternational Succes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lub Team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yenoord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uropean Cup winners 1970, 1974, 200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rld Club Champions 197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jax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uropean Cup winners 1971, 1972, 1973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87, 1992, 199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SV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uropean Cup winners 1978, 198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mi final Champions League 20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ccess attributed to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best play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cellent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some) Good players developing to become good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ld Class Play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an Cruyff (European player of the centu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co van Basten (2006: coach of the National tea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ank Rijkaard (2006: coach of FC Barcelon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an Neeskans (2006: assistant coach - FC Barcelon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nald Koeman (2006: coach of PSV – Eindhove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ud Gull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nis Bergkamp, Edgar Davids, Patrick Kluivert, Clarence Seedorf (generation 1995 – 2004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ud van Nistelrooy, Dirk Huyt, Rafael van der Vaart, Arjen Robben (generation 2004 – 201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ld Class Coach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nus Michels (Ajax, FC Barcelona, The Netherland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uis van Gaal (Ajax, FC Barcelona, The Netherland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o Beenhakker (Ajax, Real Madrid, The Netherlands, Trinidad and Tobago, Po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us Hiddink (PSV, Valencia, The Netherlands, South Korea, Australia, Rus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ck Advocaat (The Netherlands, PSV, Glasgow Rangers, South Korea, Zenith St. Petersburg)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9:46:09Z</dcterms:created>
  <dc:creator>Alistair Edwards</dc:creator>
  <dc:description/>
  <dc:language>en-US</dc:language>
  <cp:lastModifiedBy>Alistair Edwards</cp:lastModifiedBy>
  <dcterms:modified xsi:type="dcterms:W3CDTF">2006-10-08T11:00:39Z</dcterms:modified>
  <cp:revision>13</cp:revision>
  <dc:subject/>
  <dc:title>The Dutch way to stay in FIFA top “3”</dc:title>
</cp:coreProperties>
</file>