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6858000" cy="9144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C259-EADF-4F57-B0AF-B22628E5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BB8E-A88D-4153-A468-A921A48B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A1D-1206-4DB0-85C0-44FE72C0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9884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188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9884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188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F0E-0819-44D2-B94C-14B201BD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9A22-4B93-4489-A547-54F480FD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80C1-BC36-4897-A7C9-56E897FF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BB34-54F2-4903-90FD-9201D744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7F96-7790-4AD5-990F-8B29A905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F19E-5270-44A5-9B56-6B09B3DE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812520"/>
            <a:ext cx="5486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E29D-3E89-4F53-AD21-0668448E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44EE-4AE1-4DBF-95DD-CE68503E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A5E-CD4C-4B0D-93C7-76A15EB3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2295-25AC-4849-9E76-7A9A3E62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395F-121C-4B40-A05E-75F30A0F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34C2-8F6D-43E1-96C2-ABFF777C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12FD-D15E-4044-A6ED-D419B8BD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9884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1188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9884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51188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6654-8BB6-43CB-9521-D5FFCA0E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A4F-CAF8-4760-B369-3FBF0E53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D2D6-80DB-48FA-9F4E-674D7AD9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29E-32EB-4316-9FCD-0202B89C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812520"/>
            <a:ext cx="5486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0E62-AF6E-490B-BD17-92CB841D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8E9-FF07-4DBD-8388-41E86198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BF5C-215B-42E1-BFA3-F255BA37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A767-82D9-4D07-97ED-CED3C3A4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00240" y="-2946240"/>
            <a:ext cx="6858000" cy="12090240"/>
          </a:xfrm>
          <a:prstGeom prst="diamond">
            <a:avLst/>
          </a:pr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1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1" marL="660960" indent="-254160">
              <a:spcBef>
                <a:spcPts val="2251"/>
              </a:spcBef>
              <a:buClr>
                <a:srgbClr val="01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2" marL="1017000" indent="-2034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3" marL="1424160" indent="-203400">
              <a:spcBef>
                <a:spcPts val="2251"/>
              </a:spcBef>
              <a:buClr>
                <a:srgbClr val="01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4" marL="1830960" indent="-203400">
              <a:spcBef>
                <a:spcPts val="22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5" marL="1830960" indent="-203400">
              <a:spcBef>
                <a:spcPts val="22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6" marL="1830960" indent="-203400">
              <a:spcBef>
                <a:spcPts val="22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85840" cy="914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85840" cy="3048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8200" y="7924320"/>
            <a:ext cx="14288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82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2800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05E1-800E-4B26-AE62-19245AE49054}" type="slidenum">
              <a:rPr b="0" lang="en-US" sz="1400" spc="-1" strike="noStrike">
                <a:solidFill>
                  <a:srgbClr val="01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00240" y="-2946240"/>
            <a:ext cx="6858000" cy="12090240"/>
          </a:xfrm>
          <a:prstGeom prst="diamond">
            <a:avLst/>
          </a:pr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85840" cy="914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85840" cy="3048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628200" y="7924320"/>
            <a:ext cx="14288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6282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2800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66E0-E49B-4958-BDE0-CC5A82A4C44A}" type="slidenum">
              <a:rPr b="0" lang="en-US" sz="1400" spc="-1" strike="noStrike">
                <a:solidFill>
                  <a:srgbClr val="01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01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01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01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5943600" cy="38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10000"/>
                </a:solidFill>
                <a:uFillTx/>
                <a:latin typeface="Tahoma"/>
              </a:rPr>
              <a:t>Mini Soccer</a:t>
            </a:r>
            <a:r>
              <a:rPr b="0" lang="en-US" sz="4800" spc="-1" strike="noStrike">
                <a:solidFill>
                  <a:srgbClr val="010000"/>
                </a:solidFill>
                <a:latin typeface="Tahoma"/>
              </a:rPr>
              <a:t>  </a:t>
            </a:r>
            <a:br>
              <a:rPr sz="4800"/>
            </a:br>
            <a:br>
              <a:rPr sz="4800"/>
            </a:br>
            <a:r>
              <a:rPr b="1" lang="en-US" sz="2400" spc="-1" strike="noStrike">
                <a:solidFill>
                  <a:srgbClr val="010000"/>
                </a:solidFill>
                <a:latin typeface="Tahoma"/>
              </a:rPr>
              <a:t>What Game  Format and Development Model is Best?</a:t>
            </a:r>
            <a:br>
              <a:rPr sz="4800"/>
            </a:br>
            <a:r>
              <a:rPr b="0" lang="en-US" sz="4000" spc="-1" strike="noStrike">
                <a:solidFill>
                  <a:srgbClr val="ff8585"/>
                </a:solidFill>
                <a:latin typeface="Tahoma"/>
              </a:rPr>
              <a:t>A Study by the Sports University of Cologne</a:t>
            </a:r>
            <a:endParaRPr b="0" lang="en-US" sz="4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028880" y="87058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064040"/>
            <a:ext cx="3029040" cy="5079960"/>
          </a:xfrm>
          <a:prstGeom prst="diamond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5840" y="8229600"/>
            <a:ext cx="757080" cy="914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4724280"/>
            <a:ext cx="5341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12520"/>
            <a:ext cx="5791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Average Score at Half Time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7v7 in Ideal Field</a:t>
            </a: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7-6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7v7 in Half Field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4-2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11v11 Junior Field</a:t>
            </a: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2-1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Training Objective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Provide maximum fun and enjoyment for the players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hallenge Players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Develop playing ability incrementally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reate opportunities for success, regardless of ability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64008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Developmental Consideration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59436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Children like to compete with each other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Skills need to be developed in playful environmen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Players can’t learn when game demands skills or tactics they haven’t yet learned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If they encounter the same situation many times over, they learn to deal with i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Complicated rules, such as offside detract from the ability to learn fundamental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Commonly accepted now that ages 8 to 12 are ideal for developing technique and coordination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In spite of this many coaches continue to implement adult rules and strategies, which hinder this developmen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06440"/>
            <a:ext cx="60008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Coaching Consideration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25400"/>
            <a:ext cx="5943600" cy="71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It’s not enough to merely substitute smaller games for 11v11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Basic concepts such as passing, control, dribbling and ball possession must be taugh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Players should not be forced into rigid positional responsibilities until they have mastered the basic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Development is a long term process, and the player’s enjoyment should take precedence over that of the parents - games that teach soccer fundamentals may not be the most exciting to watch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By changing conditions  and variations of the training games, the coach can alter the playing style of the children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06440"/>
            <a:ext cx="54864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	</a:t>
            </a: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Conclusions: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4436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4v4 and 5v5 (with goalkeeper) Training and Tournament Games are </a:t>
            </a:r>
            <a:r>
              <a:rPr b="1" lang="en-US" sz="2000" spc="-1" strike="noStrike">
                <a:solidFill>
                  <a:srgbClr val="010000"/>
                </a:solidFill>
                <a:latin typeface="Tahoma"/>
              </a:rPr>
              <a:t>a must for technical and basic tactical development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7v7 in a 35x55 or 40x60 yard field provides the ideal game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202"/>
                </a:solidFill>
                <a:latin typeface="Tahoma"/>
              </a:rPr>
              <a:t>for players who have already acquired enough technical development to allow them to cope with more testing tactical decisions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Tahoma"/>
              </a:rPr>
              <a:t>4v4 MUST be used regularly in training and tournaments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7v7 in half field and 11v11 are totally inappropriate for players under 12 years of age as they encourage Kick and Chase Soccer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Tahoma"/>
              </a:rPr>
              <a:t>Kick and Chase games do not develop the building blocks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 - close control, passing, dribbling and ball possession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3080" y="0"/>
            <a:ext cx="1942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The Study.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56577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0066"/>
                </a:solidFill>
                <a:latin typeface="Arial Narrow"/>
              </a:rPr>
              <a:t>Conducted by the German Football Association, in conjunction with Sports University of Cologne on 6-10 year olds.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1992 - 11v11 on 68x95 yard fields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a4fc"/>
                </a:solidFill>
                <a:latin typeface="Tahoma"/>
              </a:rPr>
              <a:t>1994 - 4v4 and 7v7 on 40x30 and 50x70 yard fields respectively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eb6a"/>
                </a:solidFill>
                <a:latin typeface="Tahoma"/>
              </a:rPr>
              <a:t>1995 - 6v6 and 7v7 Games on 40x36yard and 36x55 yard fields respectively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2 x 5 yard wide goals used in all cases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6058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11v11 On Smaller (68x95) Field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625760"/>
            <a:ext cx="4267080" cy="68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High Lactate Levels - Over 4200 yards covered in 50 minutes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Ball contacts - 38 average in midfield, only 20 on defense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Tactics and rules too complicated for this age group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Conclusion: Totally inappropriate for this age group, high danger of “burnout”!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08360" y="1676520"/>
            <a:ext cx="2249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3080" y="507600"/>
            <a:ext cx="6286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7v7 on Half Field </a:t>
            </a:r>
            <a:r>
              <a:rPr b="1" lang="en-US" sz="3600" spc="-1" strike="noStrike" u="sng">
                <a:solidFill>
                  <a:srgbClr val="010000"/>
                </a:solidFill>
                <a:uFillTx/>
                <a:latin typeface="Tahoma"/>
              </a:rPr>
              <a:t>(50x70 yards.)</a:t>
            </a:r>
            <a:endParaRPr b="0" lang="en-US" sz="36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86360" cy="65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Field is still too big for this age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Hard to distribute players evenly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ahoma"/>
              </a:rPr>
              <a:t>No build up in midfield, goals are scored from long uncontrolled passes causing breakaways, or mistakes by opponents.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No attacking imagination used or learned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4a4fc"/>
                </a:solidFill>
                <a:latin typeface="Tahoma"/>
              </a:rPr>
              <a:t>Conclusion: Better than 11v11 but still not the best format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858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Physical Stresses </a:t>
            </a:r>
            <a:br>
              <a:rPr sz="4200"/>
            </a:b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Players cover 4236 yards in 25 minutes, compared to a professional Bundesliga player who cover only about 1000 yards more in the same period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43040" y="3200400"/>
          <a:ext cx="558144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3200400"/>
                    <a:ext cx="55814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12880"/>
            <a:ext cx="6229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4v4 on 40x30 (5v5 with GK)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34880"/>
            <a:ext cx="56577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Teaches all the building blocks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- dribbling,shooting, passing, ball control followed by dribbling and shoot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Frequent 1v1 situation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Attack oriented game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-frequency of shots much higher than any other game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Few opportunities for tactical mistakes, therefore accent is on </a:t>
            </a: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technical train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20x30 fields should be used for train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Conclusion: Provides the best vehicle for enjoyment and activity. </a:t>
            </a:r>
            <a:r>
              <a:rPr b="1" lang="en-US" sz="2200" spc="-1" strike="noStrike">
                <a:solidFill>
                  <a:srgbClr val="55eb6a"/>
                </a:solidFill>
                <a:latin typeface="Tahoma"/>
              </a:rPr>
              <a:t>A must for players who do not have a high level of technical development.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812520"/>
            <a:ext cx="6343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7v7 in Smaller (35x55) Field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235240"/>
            <a:ext cx="4800600" cy="65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Optimal physical load on player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Teaches flexible attacking and Defend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Lots of Ball Contact - less talented players are involved more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More opportunity to practice basic elements of good soccer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More opportunities to attack and defend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Conclusion: The ideal game for young players with good technical ability, </a:t>
            </a:r>
            <a:r>
              <a:rPr b="1" lang="en-US" sz="2200" spc="-1" strike="noStrike">
                <a:solidFill>
                  <a:srgbClr val="55eb6a"/>
                </a:solidFill>
                <a:latin typeface="Tahoma"/>
              </a:rPr>
              <a:t>but it must be used in conjunction with 4v4 training and tournament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4120" y="2031840"/>
            <a:ext cx="1523880" cy="42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Attacking Tactics in 7v7</a:t>
            </a:r>
            <a:br>
              <a:rPr sz="4200"/>
            </a:br>
            <a:br>
              <a:rPr sz="4200"/>
            </a:br>
            <a:r>
              <a:rPr b="0" lang="en-US" sz="3800" spc="-1" strike="noStrike">
                <a:solidFill>
                  <a:srgbClr val="010000"/>
                </a:solidFill>
                <a:latin typeface="Tahoma"/>
              </a:rPr>
              <a:t>Ideal Field Vs Half Field</a:t>
            </a:r>
            <a:endParaRPr b="0" lang="en-US" sz="3800" spc="-1" strike="noStrike">
              <a:solidFill>
                <a:srgbClr val="01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71680" y="2641680"/>
          <a:ext cx="5715000" cy="589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641680"/>
                    <a:ext cx="571500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Number of Ball Touches per Player in 10 Minute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048120"/>
          <a:ext cx="5638680" cy="55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56386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9T15:14:46Z</dcterms:created>
  <dc:creator>Percy</dc:creator>
  <dc:description/>
  <dc:language>en-US</dc:language>
  <cp:lastModifiedBy>Coaches</cp:lastModifiedBy>
  <cp:lastPrinted>1999-01-30T16:44:23Z</cp:lastPrinted>
  <dcterms:modified xsi:type="dcterms:W3CDTF">2008-01-29T10:32:10Z</dcterms:modified>
  <cp:revision>3</cp:revision>
  <dc:subject/>
  <dc:title>Youth Soccer - What Game  Format is Best?  A Study by the Sports University of Cologne</dc:title>
</cp:coreProperties>
</file>