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D5B-662A-49D7-833E-F2FFA2A4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F15-DCF0-4199-ABA3-A86B0E1E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305-7C74-4D7D-8432-B0379C68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627-BAC9-4548-BE40-F2843A88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461A-AFCE-49A5-833F-077DC62B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D7FF-7146-4D06-BD69-BAE1046D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0D61-B7DD-4C71-AD4E-EDD7B1A8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F2C0-D59F-4E79-8C13-FD7E56D2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ECAB-3AD0-4E0D-BB63-B733F5C9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1D16-DC06-4D15-8F64-5DB93D0A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A0F-4589-47AC-A615-77A4FA1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E0B-1C46-4CF9-9E42-DB3CA94B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B2FD-5664-47E1-90E1-3ECFD39F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37B5-6643-4760-AD37-8B96BD48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C71F-2215-49C4-B435-1B20801F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CBD-5CDB-446D-9BF7-82264735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C56B-275C-45F0-A9DD-C355BE2F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C62-5FBB-43AF-B7CC-5F235AE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20C-E600-49D3-A0DB-EBE984FA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987-8FD4-4E96-9255-6DD421B5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8CC-FDB5-4036-B276-35ED391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293-350E-4628-8815-53D1E760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694-7C08-4A1B-89C6-6FE2012B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E46-FDD2-4D5A-B7E3-356BDC3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660960" indent="-25416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2" marL="1017000" indent="-2034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3" marL="1424160" indent="-20340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4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5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6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3445-1927-4CDF-9118-A226068C65D5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557A-0EC0-420D-9FE0-65BA9FE81A21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1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1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1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59436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10000"/>
                </a:solidFill>
                <a:uFillTx/>
                <a:latin typeface="Tahoma"/>
              </a:rPr>
              <a:t>Mini Soccer</a:t>
            </a: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 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10000"/>
                </a:solidFill>
                <a:latin typeface="Tahoma"/>
              </a:rPr>
              <a:t>What Game  Format and Development Model is Best?</a:t>
            </a:r>
            <a:br>
              <a:rPr sz="4800"/>
            </a:br>
            <a:r>
              <a:rPr b="0" lang="en-US" sz="4000" spc="-1" strike="noStrike">
                <a:solidFill>
                  <a:srgbClr val="ff8585"/>
                </a:solidFill>
                <a:latin typeface="Tahoma"/>
              </a:rPr>
              <a:t>A Study by the Sports University of Cologne</a:t>
            </a:r>
            <a:endParaRPr b="0" lang="en-US" sz="4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028880" y="8705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064040"/>
            <a:ext cx="3029040" cy="5079960"/>
          </a:xfrm>
          <a:prstGeom prst="diamond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8229600"/>
            <a:ext cx="75708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5341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125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verage Score at Half Time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v7 in Ideal Field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-6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7v7 in Half Field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4-2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11v11 Junior Field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2-1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raining Objectiv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Provide maximum fun and enjoyment for th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halleng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Develop playing ability incremental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reate opportunities for success, regardless of abilit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Developmental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hildren like to compete with each oth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Skills need to be developed in playful environ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Players can’t learn when game demands skills or tactics they haven’t yet learne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If they encounter the same situation many times over, they learn to deal with i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omplicated rules, such as offside detract from the ability to learn fundamental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mmonly accepted now that ages 8 to 12 are ideal for developing technique and coordinat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In spite of this many coaches continue to implement adult rules and strategies, which hinder this develop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06440"/>
            <a:ext cx="6000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aching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5943600" cy="71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t’s not enough to merely substitute smaller games for 11v11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asic concepts such as passing, control, dribbling and ball possession must be taugh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layers should not be forced into rigid positional responsibilities until they have mastered the basic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Development is a long term process, and the player’s enjoyment should take precedence over that of the parents - games that teach soccer fundamentals may not be the most exciting to watch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y changing conditions  and variations of the training games, the coach can alter the playing style of the childre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6440"/>
            <a:ext cx="54864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	</a:t>
            </a: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nclusions: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4436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4v4 and 5v5 (with goalkeeper) Training and Tournament Games are </a:t>
            </a: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a must for technical and basic tactical development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7v7 in a 35x55 or 40x60 yard field provides the ideal game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202"/>
                </a:solidFill>
                <a:latin typeface="Tahoma"/>
              </a:rPr>
              <a:t>for players who have already acquired enough technical development to allow them to cope with more testing tactical decision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4v4 MUST be used regularly in training and tournament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7v7 in half field and 11v11 are totally inappropriate for players under 12 years of age as they encourage Kick and Chase Soccer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Kick and Chase games do not develop the building blocks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- close control, passing, dribbling and ball possession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3080" y="0"/>
            <a:ext cx="1942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he Study.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 Narrow"/>
              </a:rPr>
              <a:t>Conducted by the German Football Association, in conjunction with Sports University of Cologne on 6-10 year olds.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1992 - 11v11 on 68x95 yard field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a4fc"/>
                </a:solidFill>
                <a:latin typeface="Tahoma"/>
              </a:rPr>
              <a:t>1994 - 4v4 and 7v7 on 40x30 and 50x70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eb6a"/>
                </a:solidFill>
                <a:latin typeface="Tahoma"/>
              </a:rPr>
              <a:t>1995 - 6v6 and 7v7 Games on 40x36yard and 36x55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2 x 5 yard wide goals used in all cases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60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11v11 On Smaller (68x9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25760"/>
            <a:ext cx="4267080" cy="68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igh Lactate Levels - Over 4200 yards covered in 50 minute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Ball contacts - 38 average in midfield, only 20 on defens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actics and rules too complicated for this age group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Conclusion: Totally inappropriate for this age group, high danger of “burnout”!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08360" y="1676520"/>
            <a:ext cx="2249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080" y="507600"/>
            <a:ext cx="628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on Half Field </a:t>
            </a:r>
            <a:r>
              <a:rPr b="1" lang="en-US" sz="3600" spc="-1" strike="noStrike" u="sng">
                <a:solidFill>
                  <a:srgbClr val="010000"/>
                </a:solidFill>
                <a:uFillTx/>
                <a:latin typeface="Tahoma"/>
              </a:rPr>
              <a:t>(50x70 yards.)</a:t>
            </a:r>
            <a:endParaRPr b="0" lang="en-US" sz="36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8636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eld is still too big for this ag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ard to distribute players even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ahoma"/>
              </a:rPr>
              <a:t>No build up in midfield, goals are scored from long uncontrolled passes causing breakaways, or mistakes by opponents.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No attacking imagination used or learned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a4fc"/>
                </a:solidFill>
                <a:latin typeface="Tahoma"/>
              </a:rPr>
              <a:t>Conclusion: Better than 11v11 but still not the bes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Physical Stresses </a:t>
            </a:r>
            <a:br>
              <a:rPr sz="4200"/>
            </a:b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Players cover 4236 yards in 25 minutes, compared to a professional Bundesliga player who cover only about 1000 yards more in the same period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43040" y="3200400"/>
          <a:ext cx="558144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3200400"/>
                    <a:ext cx="55814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12880"/>
            <a:ext cx="6229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4v4 on 40x30 (5v5 with GK)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3488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aches all the building blocks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 dribbling,shooting, passing, ball control followed by dribbling and shoot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requent 1v1 situation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Attack oriented game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frequency of shots much higher than any other gam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ew opportunities for tactical mistakes, therefore accent is on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chnical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20x30 fields should be used for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Provides the best vehicle for enjoyment and activity.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A must for players who do not have a high level of technical development.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812520"/>
            <a:ext cx="6343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in Smaller (35x5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235240"/>
            <a:ext cx="480060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ptimal physical load on player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eaches flexible attacking and Defend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Lots of Ball Contact - less talented players are involved mor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y to practice basic elements of good socc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ies to attack and defen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The ideal game for young players with good technical ability,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but it must be used in conjunction with 4v4 training and tournamen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031840"/>
            <a:ext cx="152388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ttacking Tactics in 7v7</a:t>
            </a:r>
            <a:br>
              <a:rPr sz="4200"/>
            </a:br>
            <a:br>
              <a:rPr sz="4200"/>
            </a:br>
            <a:r>
              <a:rPr b="0" lang="en-US" sz="3800" spc="-1" strike="noStrike">
                <a:solidFill>
                  <a:srgbClr val="010000"/>
                </a:solidFill>
                <a:latin typeface="Tahoma"/>
              </a:rPr>
              <a:t>Ideal Field Vs Half Field</a:t>
            </a:r>
            <a:endParaRPr b="0" lang="en-US" sz="3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1680" y="2641680"/>
          <a:ext cx="571500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641680"/>
                    <a:ext cx="571500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Number of Ball Touches per Player in 10 Minut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048120"/>
          <a:ext cx="563868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56386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15:14:46Z</dcterms:created>
  <dc:creator>Percy</dc:creator>
  <dc:description/>
  <dc:language>en-US</dc:language>
  <cp:lastModifiedBy>Coaches</cp:lastModifiedBy>
  <cp:lastPrinted>1999-01-30T16:44:23Z</cp:lastPrinted>
  <dcterms:modified xsi:type="dcterms:W3CDTF">2008-01-29T10:32:10Z</dcterms:modified>
  <cp:revision>3</cp:revision>
  <dc:subject/>
  <dc:title>Youth Soccer - What Game  Format is Best?  A Study by the Sports University of Cologne</dc:title>
</cp:coreProperties>
</file>