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6858000" cy="9144000"/>
  <p:notesSz cx="6858000" cy="90281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C502C-794A-4733-8B23-24E0D810D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812520"/>
            <a:ext cx="5486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3048120"/>
            <a:ext cx="56577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5595480"/>
            <a:ext cx="56577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5E16C-F340-4F38-9183-AD2EDA3EE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812520"/>
            <a:ext cx="5486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3048120"/>
            <a:ext cx="2760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85240" y="3048120"/>
            <a:ext cx="2760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5595480"/>
            <a:ext cx="2760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585240" y="5595480"/>
            <a:ext cx="2760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043D3-B4AB-46C5-93F5-65B61D3B7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812520"/>
            <a:ext cx="5486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3048120"/>
            <a:ext cx="1821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598840" y="3048120"/>
            <a:ext cx="1821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11880" y="3048120"/>
            <a:ext cx="1821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5595480"/>
            <a:ext cx="1821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598840" y="5595480"/>
            <a:ext cx="1821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4511880" y="5595480"/>
            <a:ext cx="1821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4CABF-F2DD-4F60-ADC5-753E05735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D34B7-976F-4D25-885F-DE90E6C7C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812520"/>
            <a:ext cx="5486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3048120"/>
            <a:ext cx="565776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F2382-38C8-46E5-9A07-EC7461F1D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12520"/>
            <a:ext cx="5486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048120"/>
            <a:ext cx="56577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2C89A-30B0-4E75-B58D-62681EFF9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812520"/>
            <a:ext cx="5486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3048120"/>
            <a:ext cx="27608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585240" y="3048120"/>
            <a:ext cx="27608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D55C6-2FC4-481D-8B76-93C39C552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812520"/>
            <a:ext cx="5486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739A6-7E2D-477B-9B03-67DC6D545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812520"/>
            <a:ext cx="54864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EECFE-84CB-40BF-9C6B-478AE9CE8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812520"/>
            <a:ext cx="5486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3048120"/>
            <a:ext cx="2760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585240" y="3048120"/>
            <a:ext cx="27608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5595480"/>
            <a:ext cx="2760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B95BE-4539-405F-958B-B2E6EE477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812520"/>
            <a:ext cx="5486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3048120"/>
            <a:ext cx="565776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8108A-688F-41F7-9B87-385AC07A9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812520"/>
            <a:ext cx="5486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3048120"/>
            <a:ext cx="27608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585240" y="3048120"/>
            <a:ext cx="2760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585240" y="5595480"/>
            <a:ext cx="2760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CB416-557F-45BD-A76F-0AD54B256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812520"/>
            <a:ext cx="5486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3048120"/>
            <a:ext cx="2760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585240" y="3048120"/>
            <a:ext cx="2760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5595480"/>
            <a:ext cx="56577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3E16E-B2D3-427D-9EF2-3743BFCC6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812520"/>
            <a:ext cx="5486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3048120"/>
            <a:ext cx="56577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5595480"/>
            <a:ext cx="56577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8B21A-C7E4-40E4-B840-33352A177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812520"/>
            <a:ext cx="5486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3048120"/>
            <a:ext cx="2760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585240" y="3048120"/>
            <a:ext cx="2760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5595480"/>
            <a:ext cx="2760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585240" y="5595480"/>
            <a:ext cx="2760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A6CDC-7C1E-41B7-A077-600B7130F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812520"/>
            <a:ext cx="5486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3048120"/>
            <a:ext cx="1821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598840" y="3048120"/>
            <a:ext cx="1821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11880" y="3048120"/>
            <a:ext cx="1821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5595480"/>
            <a:ext cx="1821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2598840" y="5595480"/>
            <a:ext cx="1821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4511880" y="5595480"/>
            <a:ext cx="1821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BBD91-802D-4953-9315-131B9AAA2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812520"/>
            <a:ext cx="5486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3048120"/>
            <a:ext cx="56577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5B7D6-849C-437C-86A3-A60BFFBF4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812520"/>
            <a:ext cx="5486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3048120"/>
            <a:ext cx="27608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3585240" y="3048120"/>
            <a:ext cx="27608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45902-3922-4D91-B683-E6EB460CD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812520"/>
            <a:ext cx="5486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1BCB5-7261-408B-AC93-0C1FF351C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812520"/>
            <a:ext cx="54864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CEFE9-72F7-4EBC-A3CF-BBF11674A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812520"/>
            <a:ext cx="5486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3048120"/>
            <a:ext cx="2760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3585240" y="3048120"/>
            <a:ext cx="27608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5595480"/>
            <a:ext cx="2760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EB86E-0620-4A51-80DA-1C730343B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812520"/>
            <a:ext cx="5486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3048120"/>
            <a:ext cx="27608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3585240" y="3048120"/>
            <a:ext cx="2760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585240" y="5595480"/>
            <a:ext cx="2760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1DDE8-E5BD-4074-861A-490853887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812520"/>
            <a:ext cx="5486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3048120"/>
            <a:ext cx="2760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585240" y="3048120"/>
            <a:ext cx="2760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5595480"/>
            <a:ext cx="56577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96533-9F07-40E4-9B95-F130C51D8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0c0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200240" y="-2946240"/>
            <a:ext cx="6858000" cy="12090240"/>
          </a:xfrm>
          <a:prstGeom prst="diamond">
            <a:avLst/>
          </a:prstGeom>
          <a:gradFill rotWithShape="0">
            <a:gsLst>
              <a:gs pos="0">
                <a:srgbClr val="c0c0c0"/>
              </a:gs>
              <a:gs pos="100000">
                <a:srgbClr val="eaeae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812520"/>
            <a:ext cx="5486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10000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3048120"/>
            <a:ext cx="56577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2251"/>
              </a:spcBef>
              <a:buClr>
                <a:srgbClr val="01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Tahoma"/>
              </a:rPr>
              <a:t>Click to edit the outline text format</a:t>
            </a:r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  <a:p>
            <a:pPr lvl="1" marL="660960" indent="-254160">
              <a:spcBef>
                <a:spcPts val="2251"/>
              </a:spcBef>
              <a:buClr>
                <a:srgbClr val="01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Tahoma"/>
              </a:rPr>
              <a:t>Second Outline Level</a:t>
            </a:r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  <a:p>
            <a:pPr lvl="2" marL="1017000" indent="-203400">
              <a:spcBef>
                <a:spcPts val="2251"/>
              </a:spcBef>
              <a:buClr>
                <a:srgbClr val="01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Tahoma"/>
              </a:rPr>
              <a:t>Third Outline Level</a:t>
            </a:r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  <a:p>
            <a:pPr lvl="3" marL="1424160" indent="-203400">
              <a:spcBef>
                <a:spcPts val="2251"/>
              </a:spcBef>
              <a:buClr>
                <a:srgbClr val="01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Tahoma"/>
              </a:rPr>
              <a:t>Fourth Outline Level</a:t>
            </a:r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  <a:p>
            <a:pPr lvl="4" marL="1830960" indent="-203400">
              <a:spcBef>
                <a:spcPts val="2251"/>
              </a:spcBef>
              <a:buClr>
                <a:srgbClr val="01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Tahoma"/>
              </a:rPr>
              <a:t>Fifth Outline Level</a:t>
            </a:r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  <a:p>
            <a:pPr lvl="5" marL="1830960" indent="-203400">
              <a:spcBef>
                <a:spcPts val="2251"/>
              </a:spcBef>
              <a:buClr>
                <a:srgbClr val="01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Tahoma"/>
              </a:rPr>
              <a:t>Sixth Outline Level</a:t>
            </a:r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  <a:p>
            <a:pPr lvl="6" marL="1830960" indent="-203400">
              <a:spcBef>
                <a:spcPts val="2251"/>
              </a:spcBef>
              <a:buClr>
                <a:srgbClr val="01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Tahoma"/>
              </a:rPr>
              <a:t>Seventh Outline Level</a:t>
            </a:r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285840" cy="914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0"/>
            <a:ext cx="285840" cy="30481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28200" y="7924320"/>
            <a:ext cx="142884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1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28200" y="8331120"/>
            <a:ext cx="21718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1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2800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1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26520-44C8-42DE-8D8D-1276289FE729}" type="slidenum">
              <a:rPr b="0" lang="en-US" sz="1400" spc="-1" strike="noStrike">
                <a:solidFill>
                  <a:srgbClr val="01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0c0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200240" y="-2946240"/>
            <a:ext cx="6858000" cy="12090240"/>
          </a:xfrm>
          <a:prstGeom prst="diamond">
            <a:avLst/>
          </a:prstGeom>
          <a:gradFill rotWithShape="0">
            <a:gsLst>
              <a:gs pos="0">
                <a:srgbClr val="c0c0c0"/>
              </a:gs>
              <a:gs pos="100000">
                <a:srgbClr val="eaeae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285840" cy="914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285840" cy="30481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628200" y="7924320"/>
            <a:ext cx="142884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1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628200" y="8331120"/>
            <a:ext cx="21718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1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2800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1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D65AB-F2E2-43DB-9A58-BEEAF304DC36}" type="slidenum">
              <a:rPr b="0" lang="en-US" sz="1400" spc="-1" strike="noStrike">
                <a:solidFill>
                  <a:srgbClr val="01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10000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Tahoma"/>
              </a:rPr>
              <a:t>Click to edit the outline text format</a:t>
            </a:r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  <a:p>
            <a:pPr lvl="1" marL="457200" indent="0" algn="ctr"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Tahoma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Tahoma"/>
            </a:endParaRPr>
          </a:p>
          <a:p>
            <a:pPr lvl="2" marL="914400" algn="ctr">
              <a:lnSpc>
                <a:spcPct val="95000"/>
              </a:lnSpc>
              <a:spcBef>
                <a:spcPts val="1049"/>
              </a:spcBef>
              <a:buClr>
                <a:srgbClr val="01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Tahoma"/>
            </a:endParaRPr>
          </a:p>
          <a:p>
            <a:pPr lvl="3" marL="1371600" algn="ctr">
              <a:lnSpc>
                <a:spcPct val="75000"/>
              </a:lnSpc>
              <a:spcBef>
                <a:spcPts val="751"/>
              </a:spcBef>
              <a:buClr>
                <a:srgbClr val="01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Tahoma"/>
            </a:endParaRPr>
          </a:p>
          <a:p>
            <a:pPr lvl="4" marL="1828800" algn="ctr">
              <a:lnSpc>
                <a:spcPct val="75000"/>
              </a:lnSpc>
              <a:spcBef>
                <a:spcPts val="675"/>
              </a:spcBef>
              <a:buClr>
                <a:srgbClr val="01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1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1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1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1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1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0c0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507960"/>
            <a:ext cx="5943600" cy="38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10000"/>
                </a:solidFill>
                <a:uFillTx/>
                <a:latin typeface="Tahoma"/>
              </a:rPr>
              <a:t>Mini Soccer</a:t>
            </a:r>
            <a:r>
              <a:rPr b="0" lang="en-US" sz="4800" spc="-1" strike="noStrike">
                <a:solidFill>
                  <a:srgbClr val="010000"/>
                </a:solidFill>
                <a:latin typeface="Tahoma"/>
              </a:rPr>
              <a:t>  </a:t>
            </a:r>
            <a:br>
              <a:rPr sz="4800"/>
            </a:br>
            <a:br>
              <a:rPr sz="4800"/>
            </a:br>
            <a:r>
              <a:rPr b="1" lang="en-US" sz="2400" spc="-1" strike="noStrike">
                <a:solidFill>
                  <a:srgbClr val="010000"/>
                </a:solidFill>
                <a:latin typeface="Tahoma"/>
              </a:rPr>
              <a:t>What Game  Format and Development Model is Best?</a:t>
            </a:r>
            <a:br>
              <a:rPr sz="4800"/>
            </a:br>
            <a:r>
              <a:rPr b="0" lang="en-US" sz="4000" spc="-1" strike="noStrike">
                <a:solidFill>
                  <a:srgbClr val="ff8585"/>
                </a:solidFill>
                <a:latin typeface="Tahoma"/>
              </a:rPr>
              <a:t>A Study by the Sports University of Cologne</a:t>
            </a:r>
            <a:endParaRPr b="0" lang="en-US" sz="40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1028880" y="8705880"/>
            <a:ext cx="3200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Copyright, 1996 © Dale Carnegie &amp; Associates, Inc.</a:t>
            </a:r>
            <a:endParaRPr b="0" lang="en-US" sz="1400" spc="-1" strike="noStrike">
              <a:solidFill>
                <a:srgbClr val="01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114800" y="4064040"/>
            <a:ext cx="3029040" cy="5079960"/>
          </a:xfrm>
          <a:prstGeom prst="diamond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285840" y="8229600"/>
            <a:ext cx="757080" cy="9144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762120" y="4724280"/>
            <a:ext cx="534168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0c0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812520"/>
            <a:ext cx="57913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 u="sng">
                <a:solidFill>
                  <a:srgbClr val="010000"/>
                </a:solidFill>
                <a:uFillTx/>
                <a:latin typeface="Tahoma"/>
              </a:rPr>
              <a:t>Average Score at Half Time</a:t>
            </a:r>
            <a:endParaRPr b="0" lang="en-US" sz="42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3048120"/>
            <a:ext cx="56577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51"/>
              </a:spcBef>
              <a:buClr>
                <a:srgbClr val="01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5eb6a"/>
                </a:solidFill>
                <a:latin typeface="Tahoma"/>
              </a:rPr>
              <a:t>7v7 in Ideal Field</a:t>
            </a:r>
            <a:r>
              <a:rPr b="0" lang="en-US" sz="3000" spc="-1" strike="noStrike">
                <a:solidFill>
                  <a:srgbClr val="55eb6a"/>
                </a:solidFill>
                <a:latin typeface="Tahoma"/>
              </a:rPr>
              <a:t>	</a:t>
            </a:r>
            <a:r>
              <a:rPr b="0" lang="en-US" sz="3000" spc="-1" strike="noStrike">
                <a:solidFill>
                  <a:srgbClr val="55eb6a"/>
                </a:solidFill>
                <a:latin typeface="Tahoma"/>
              </a:rPr>
              <a:t>	</a:t>
            </a:r>
            <a:r>
              <a:rPr b="0" lang="en-US" sz="3000" spc="-1" strike="noStrike">
                <a:solidFill>
                  <a:srgbClr val="55eb6a"/>
                </a:solidFill>
                <a:latin typeface="Tahoma"/>
              </a:rPr>
              <a:t>7-6</a:t>
            </a:r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  <a:p>
            <a:pPr marL="343080"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  <a:p>
            <a:pPr marL="343080" indent="-343080">
              <a:spcBef>
                <a:spcPts val="2251"/>
              </a:spcBef>
              <a:buClr>
                <a:srgbClr val="01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ahoma"/>
              </a:rPr>
              <a:t>7v7 in Half Field</a:t>
            </a:r>
            <a:r>
              <a:rPr b="0" lang="en-US" sz="30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US" sz="30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US" sz="3000" spc="-1" strike="noStrike">
                <a:solidFill>
                  <a:srgbClr val="ffff00"/>
                </a:solidFill>
                <a:latin typeface="Tahoma"/>
              </a:rPr>
              <a:t>4-2</a:t>
            </a:r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  <a:p>
            <a:pPr marL="343080"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  <a:p>
            <a:pPr marL="343080" indent="-343080">
              <a:spcBef>
                <a:spcPts val="2251"/>
              </a:spcBef>
              <a:buClr>
                <a:srgbClr val="01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66"/>
                </a:solidFill>
                <a:latin typeface="Tahoma"/>
              </a:rPr>
              <a:t>11v11 Junior Field</a:t>
            </a:r>
            <a:r>
              <a:rPr b="0" lang="en-US" sz="3000" spc="-1" strike="noStrike">
                <a:solidFill>
                  <a:srgbClr val="ff0066"/>
                </a:solidFill>
                <a:latin typeface="Tahoma"/>
              </a:rPr>
              <a:t>	</a:t>
            </a:r>
            <a:r>
              <a:rPr b="0" lang="en-US" sz="3000" spc="-1" strike="noStrike">
                <a:solidFill>
                  <a:srgbClr val="ff0066"/>
                </a:solidFill>
                <a:latin typeface="Tahoma"/>
              </a:rPr>
              <a:t>	</a:t>
            </a:r>
            <a:r>
              <a:rPr b="0" lang="en-US" sz="3000" spc="-1" strike="noStrike">
                <a:solidFill>
                  <a:srgbClr val="ff0066"/>
                </a:solidFill>
                <a:latin typeface="Tahoma"/>
              </a:rPr>
              <a:t>2-1</a:t>
            </a:r>
            <a:r>
              <a:rPr b="0" lang="en-US" sz="3000" spc="-1" strike="noStrike">
                <a:solidFill>
                  <a:srgbClr val="010000"/>
                </a:solidFill>
                <a:latin typeface="Tahoma"/>
              </a:rPr>
              <a:t>	</a:t>
            </a:r>
            <a:r>
              <a:rPr b="0" lang="en-US" sz="3000" spc="-1" strike="noStrike">
                <a:solidFill>
                  <a:srgbClr val="010000"/>
                </a:solidFill>
                <a:latin typeface="Tahoma"/>
              </a:rPr>
              <a:t>	</a:t>
            </a:r>
            <a:r>
              <a:rPr b="0" lang="en-US" sz="3000" spc="-1" strike="noStrike">
                <a:solidFill>
                  <a:srgbClr val="010000"/>
                </a:solidFill>
                <a:latin typeface="Tahoma"/>
              </a:rPr>
              <a:t>	</a:t>
            </a:r>
            <a:r>
              <a:rPr b="0" lang="en-US" sz="3000" spc="-1" strike="noStrike">
                <a:solidFill>
                  <a:srgbClr val="010000"/>
                </a:solidFill>
                <a:latin typeface="Tahoma"/>
              </a:rPr>
              <a:t>	</a:t>
            </a:r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0c0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812520"/>
            <a:ext cx="5486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 u="sng">
                <a:solidFill>
                  <a:srgbClr val="010000"/>
                </a:solidFill>
                <a:uFillTx/>
                <a:latin typeface="Tahoma"/>
              </a:rPr>
              <a:t>Training Objectives</a:t>
            </a:r>
            <a:endParaRPr b="0" lang="en-US" sz="42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3048120"/>
            <a:ext cx="56577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51"/>
              </a:spcBef>
              <a:buClr>
                <a:srgbClr val="01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Tahoma"/>
              </a:rPr>
              <a:t>Provide maximum fun and enjoyment for the players</a:t>
            </a:r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  <a:p>
            <a:pPr marL="343080" indent="-343080">
              <a:spcBef>
                <a:spcPts val="2251"/>
              </a:spcBef>
              <a:buClr>
                <a:srgbClr val="01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Tahoma"/>
              </a:rPr>
              <a:t>Challenge Players</a:t>
            </a:r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  <a:p>
            <a:pPr marL="343080" indent="-343080">
              <a:spcBef>
                <a:spcPts val="2251"/>
              </a:spcBef>
              <a:buClr>
                <a:srgbClr val="01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Tahoma"/>
              </a:rPr>
              <a:t>Develop playing ability incrementally</a:t>
            </a:r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  <a:p>
            <a:pPr marL="343080" indent="-343080">
              <a:spcBef>
                <a:spcPts val="2251"/>
              </a:spcBef>
              <a:buClr>
                <a:srgbClr val="01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Tahoma"/>
              </a:rPr>
              <a:t>Create opportunities for success, regardless of ability</a:t>
            </a:r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0c0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43080" y="304560"/>
            <a:ext cx="64008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 u="sng">
                <a:solidFill>
                  <a:srgbClr val="010000"/>
                </a:solidFill>
                <a:uFillTx/>
                <a:latin typeface="Tahoma"/>
              </a:rPr>
              <a:t>Developmental Considerations</a:t>
            </a:r>
            <a:endParaRPr b="0" lang="en-US" sz="42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5943600" cy="731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50"/>
              </a:spcBef>
              <a:buClr>
                <a:srgbClr val="01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66"/>
                </a:solidFill>
                <a:latin typeface="Tahoma"/>
              </a:rPr>
              <a:t>Children like to compete with each other</a:t>
            </a:r>
            <a:endParaRPr b="0" lang="en-US" sz="2200" spc="-1" strike="noStrike">
              <a:solidFill>
                <a:srgbClr val="010000"/>
              </a:solidFill>
              <a:latin typeface="Tahoma"/>
            </a:endParaRPr>
          </a:p>
          <a:p>
            <a:pPr marL="343080" indent="-343080">
              <a:spcBef>
                <a:spcPts val="1650"/>
              </a:spcBef>
              <a:buClr>
                <a:srgbClr val="01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5eb6a"/>
                </a:solidFill>
                <a:latin typeface="Tahoma"/>
              </a:rPr>
              <a:t>Skills need to be developed in playful environment</a:t>
            </a:r>
            <a:endParaRPr b="0" lang="en-US" sz="2200" spc="-1" strike="noStrike">
              <a:solidFill>
                <a:srgbClr val="010000"/>
              </a:solidFill>
              <a:latin typeface="Tahoma"/>
            </a:endParaRPr>
          </a:p>
          <a:p>
            <a:pPr marL="343080" indent="-343080">
              <a:spcBef>
                <a:spcPts val="1650"/>
              </a:spcBef>
              <a:buClr>
                <a:srgbClr val="01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66"/>
                </a:solidFill>
                <a:latin typeface="Tahoma"/>
              </a:rPr>
              <a:t>Players can’t learn when game demands skills or tactics they haven’t yet learned</a:t>
            </a:r>
            <a:endParaRPr b="0" lang="en-US" sz="2200" spc="-1" strike="noStrike">
              <a:solidFill>
                <a:srgbClr val="010000"/>
              </a:solidFill>
              <a:latin typeface="Tahoma"/>
            </a:endParaRPr>
          </a:p>
          <a:p>
            <a:pPr marL="343080" indent="-343080">
              <a:spcBef>
                <a:spcPts val="1650"/>
              </a:spcBef>
              <a:buClr>
                <a:srgbClr val="01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5eb6a"/>
                </a:solidFill>
                <a:latin typeface="Tahoma"/>
              </a:rPr>
              <a:t>If they encounter the same situation many times over, they learn to deal with it</a:t>
            </a:r>
            <a:endParaRPr b="0" lang="en-US" sz="2200" spc="-1" strike="noStrike">
              <a:solidFill>
                <a:srgbClr val="010000"/>
              </a:solidFill>
              <a:latin typeface="Tahoma"/>
            </a:endParaRPr>
          </a:p>
          <a:p>
            <a:pPr marL="343080" indent="-343080">
              <a:spcBef>
                <a:spcPts val="1650"/>
              </a:spcBef>
              <a:buClr>
                <a:srgbClr val="01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66"/>
                </a:solidFill>
                <a:latin typeface="Tahoma"/>
              </a:rPr>
              <a:t>Complicated rules, such as offside detract from the ability to learn fundamentals</a:t>
            </a:r>
            <a:endParaRPr b="0" lang="en-US" sz="2200" spc="-1" strike="noStrike">
              <a:solidFill>
                <a:srgbClr val="010000"/>
              </a:solidFill>
              <a:latin typeface="Tahoma"/>
            </a:endParaRPr>
          </a:p>
          <a:p>
            <a:pPr marL="343080" indent="-343080">
              <a:spcBef>
                <a:spcPts val="1650"/>
              </a:spcBef>
              <a:buClr>
                <a:srgbClr val="01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5eb6a"/>
                </a:solidFill>
                <a:latin typeface="Tahoma"/>
              </a:rPr>
              <a:t>Commonly accepted now that ages 8 to 12 are ideal for developing technique and coordination</a:t>
            </a:r>
            <a:endParaRPr b="0" lang="en-US" sz="2200" spc="-1" strike="noStrike">
              <a:solidFill>
                <a:srgbClr val="010000"/>
              </a:solidFill>
              <a:latin typeface="Tahoma"/>
            </a:endParaRPr>
          </a:p>
          <a:p>
            <a:pPr marL="343080" indent="-343080">
              <a:spcBef>
                <a:spcPts val="1650"/>
              </a:spcBef>
              <a:buClr>
                <a:srgbClr val="01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66"/>
                </a:solidFill>
                <a:latin typeface="Tahoma"/>
              </a:rPr>
              <a:t>In spite of this many coaches continue to implement adult rules and strategies, which hinder this development</a:t>
            </a:r>
            <a:endParaRPr b="0" lang="en-US" sz="2200" spc="-1" strike="noStrike">
              <a:solidFill>
                <a:srgbClr val="01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0c0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406440"/>
            <a:ext cx="600084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 u="sng">
                <a:solidFill>
                  <a:srgbClr val="010000"/>
                </a:solidFill>
                <a:uFillTx/>
                <a:latin typeface="Tahoma"/>
              </a:rPr>
              <a:t>Coaching Considerations</a:t>
            </a:r>
            <a:endParaRPr b="0" lang="en-US" sz="42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625400"/>
            <a:ext cx="5943600" cy="71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50"/>
              </a:spcBef>
              <a:buClr>
                <a:srgbClr val="01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Tahoma"/>
              </a:rPr>
              <a:t>It’s not enough to merely substitute smaller games for 11v11</a:t>
            </a:r>
            <a:endParaRPr b="0" lang="en-US" sz="2200" spc="-1" strike="noStrike">
              <a:solidFill>
                <a:srgbClr val="010000"/>
              </a:solidFill>
              <a:latin typeface="Tahoma"/>
            </a:endParaRPr>
          </a:p>
          <a:p>
            <a:pPr marL="343080" indent="-343080">
              <a:spcBef>
                <a:spcPts val="1650"/>
              </a:spcBef>
              <a:buClr>
                <a:srgbClr val="01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Tahoma"/>
              </a:rPr>
              <a:t>Basic concepts such as passing, control, dribbling and ball possession must be taught</a:t>
            </a:r>
            <a:endParaRPr b="0" lang="en-US" sz="2200" spc="-1" strike="noStrike">
              <a:solidFill>
                <a:srgbClr val="010000"/>
              </a:solidFill>
              <a:latin typeface="Tahoma"/>
            </a:endParaRPr>
          </a:p>
          <a:p>
            <a:pPr marL="343080" indent="-343080">
              <a:spcBef>
                <a:spcPts val="1650"/>
              </a:spcBef>
              <a:buClr>
                <a:srgbClr val="01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Tahoma"/>
              </a:rPr>
              <a:t>Players should not be forced into rigid positional responsibilities until they have mastered the basics</a:t>
            </a:r>
            <a:endParaRPr b="0" lang="en-US" sz="2200" spc="-1" strike="noStrike">
              <a:solidFill>
                <a:srgbClr val="010000"/>
              </a:solidFill>
              <a:latin typeface="Tahoma"/>
            </a:endParaRPr>
          </a:p>
          <a:p>
            <a:pPr marL="343080" indent="-343080">
              <a:spcBef>
                <a:spcPts val="1650"/>
              </a:spcBef>
              <a:buClr>
                <a:srgbClr val="01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66"/>
                </a:solidFill>
                <a:latin typeface="Tahoma"/>
              </a:rPr>
              <a:t>Development is a long term process, and the player’s enjoyment should take precedence over that of the parents - games that teach soccer fundamentals may not be the most exciting to watch</a:t>
            </a:r>
            <a:endParaRPr b="0" lang="en-US" sz="2200" spc="-1" strike="noStrike">
              <a:solidFill>
                <a:srgbClr val="010000"/>
              </a:solidFill>
              <a:latin typeface="Tahoma"/>
            </a:endParaRPr>
          </a:p>
          <a:p>
            <a:pPr marL="343080" indent="-343080">
              <a:spcBef>
                <a:spcPts val="1650"/>
              </a:spcBef>
              <a:buClr>
                <a:srgbClr val="01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Tahoma"/>
              </a:rPr>
              <a:t>By changing conditions  and variations of the training games, the coach can alter the playing style of the children</a:t>
            </a:r>
            <a:endParaRPr b="0" lang="en-US" sz="2200" spc="-1" strike="noStrike">
              <a:solidFill>
                <a:srgbClr val="01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0c0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06440"/>
            <a:ext cx="5486400" cy="111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 u="sng">
                <a:solidFill>
                  <a:srgbClr val="010000"/>
                </a:solidFill>
                <a:uFillTx/>
                <a:latin typeface="Tahoma"/>
              </a:rPr>
              <a:t>	</a:t>
            </a:r>
            <a:r>
              <a:rPr b="1" lang="en-US" sz="4200" spc="-1" strike="noStrike" u="sng">
                <a:solidFill>
                  <a:srgbClr val="010000"/>
                </a:solidFill>
                <a:uFillTx/>
                <a:latin typeface="Tahoma"/>
              </a:rPr>
              <a:t>Conclusions:</a:t>
            </a:r>
            <a:endParaRPr b="0" lang="en-US" sz="42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2844360"/>
            <a:ext cx="61722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1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Tahoma"/>
              </a:rPr>
              <a:t>4v4 and 5v5 (with goalkeeper) Training and Tournament Games are </a:t>
            </a:r>
            <a:r>
              <a:rPr b="1" lang="en-US" sz="2000" spc="-1" strike="noStrike">
                <a:solidFill>
                  <a:srgbClr val="010000"/>
                </a:solidFill>
                <a:latin typeface="Tahoma"/>
              </a:rPr>
              <a:t>a must for technical and basic tactical development</a:t>
            </a:r>
            <a:endParaRPr b="0" lang="en-US" sz="2000" spc="-1" strike="noStrike">
              <a:solidFill>
                <a:srgbClr val="010000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Clr>
                <a:srgbClr val="01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ahoma"/>
              </a:rPr>
              <a:t>7v7 in a 35x55 or 40x60 yard field provides the ideal game</a:t>
            </a:r>
            <a:r>
              <a:rPr b="0" lang="en-US" sz="2000" spc="-1" strike="noStrike">
                <a:solidFill>
                  <a:srgbClr val="010000"/>
                </a:solidFill>
                <a:latin typeface="Tahoma"/>
              </a:rPr>
              <a:t> </a:t>
            </a:r>
            <a:r>
              <a:rPr b="1" i="1" lang="en-US" sz="2000" spc="-1" strike="noStrike">
                <a:solidFill>
                  <a:srgbClr val="000202"/>
                </a:solidFill>
                <a:latin typeface="Tahoma"/>
              </a:rPr>
              <a:t>for players who have already acquired enough technical development to allow them to cope with more testing tactical decisions</a:t>
            </a:r>
            <a:endParaRPr b="0" lang="en-US" sz="2000" spc="-1" strike="noStrike">
              <a:solidFill>
                <a:srgbClr val="010000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Clr>
                <a:srgbClr val="01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10000"/>
                </a:solidFill>
                <a:latin typeface="Tahoma"/>
              </a:rPr>
              <a:t>4v4 MUST be used regularly in training and tournaments</a:t>
            </a:r>
            <a:endParaRPr b="0" lang="en-US" sz="2000" spc="-1" strike="noStrike">
              <a:solidFill>
                <a:srgbClr val="010000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Clr>
                <a:srgbClr val="01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Tahoma"/>
              </a:rPr>
              <a:t>7v7 in half field and 11v11 are totally inappropriate for players under 12 years of age as they encourage Kick and Chase Soccer</a:t>
            </a:r>
            <a:endParaRPr b="0" lang="en-US" sz="2000" spc="-1" strike="noStrike">
              <a:solidFill>
                <a:srgbClr val="010000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Clr>
                <a:srgbClr val="01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10000"/>
                </a:solidFill>
                <a:latin typeface="Tahoma"/>
              </a:rPr>
              <a:t>Kick and Chase games do not develop the building blocks</a:t>
            </a:r>
            <a:r>
              <a:rPr b="0" lang="en-US" sz="2000" spc="-1" strike="noStrike">
                <a:solidFill>
                  <a:srgbClr val="010000"/>
                </a:solidFill>
                <a:latin typeface="Tahoma"/>
              </a:rPr>
              <a:t> - close control, passing, dribbling and ball possession</a:t>
            </a:r>
            <a:endParaRPr b="0" lang="en-US" sz="2000" spc="-1" strike="noStrike">
              <a:solidFill>
                <a:srgbClr val="010000"/>
              </a:solidFill>
              <a:latin typeface="Tahoma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Tahom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43080" y="0"/>
            <a:ext cx="1942920" cy="26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0c0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812520"/>
            <a:ext cx="54864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 u="sng">
                <a:solidFill>
                  <a:srgbClr val="010000"/>
                </a:solidFill>
                <a:uFillTx/>
                <a:latin typeface="Tahoma"/>
              </a:rPr>
              <a:t>The Study.</a:t>
            </a:r>
            <a:endParaRPr b="0" lang="en-US" sz="42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5657760" cy="67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950"/>
              </a:spcBef>
              <a:buClr>
                <a:srgbClr val="01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ff0066"/>
                </a:solidFill>
                <a:latin typeface="Arial Narrow"/>
              </a:rPr>
              <a:t>Conducted by the German Football Association, in conjunction with Sports University of Cologne on 6-10 year olds.</a:t>
            </a:r>
            <a:endParaRPr b="0" lang="en-US" sz="2600" spc="-1" strike="noStrike">
              <a:solidFill>
                <a:srgbClr val="010000"/>
              </a:solidFill>
              <a:latin typeface="Tahoma"/>
            </a:endParaRPr>
          </a:p>
          <a:p>
            <a:pPr marL="343080" indent="-343080">
              <a:spcBef>
                <a:spcPts val="1950"/>
              </a:spcBef>
              <a:buClr>
                <a:srgbClr val="01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Tahoma"/>
              </a:rPr>
              <a:t>1992 - 11v11 on 68x95 yard fields</a:t>
            </a:r>
            <a:endParaRPr b="0" lang="en-US" sz="2600" spc="-1" strike="noStrike">
              <a:solidFill>
                <a:srgbClr val="010000"/>
              </a:solidFill>
              <a:latin typeface="Tahoma"/>
            </a:endParaRPr>
          </a:p>
          <a:p>
            <a:pPr marL="343080" indent="-343080">
              <a:spcBef>
                <a:spcPts val="1950"/>
              </a:spcBef>
              <a:buClr>
                <a:srgbClr val="01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4a4fc"/>
                </a:solidFill>
                <a:latin typeface="Tahoma"/>
              </a:rPr>
              <a:t>1994 - 4v4 and 7v7 on 40x30 and 50x70 yard fields respectively</a:t>
            </a:r>
            <a:endParaRPr b="0" lang="en-US" sz="2600" spc="-1" strike="noStrike">
              <a:solidFill>
                <a:srgbClr val="010000"/>
              </a:solidFill>
              <a:latin typeface="Tahoma"/>
            </a:endParaRPr>
          </a:p>
          <a:p>
            <a:pPr marL="343080" indent="-343080">
              <a:spcBef>
                <a:spcPts val="1950"/>
              </a:spcBef>
              <a:buClr>
                <a:srgbClr val="01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5eb6a"/>
                </a:solidFill>
                <a:latin typeface="Tahoma"/>
              </a:rPr>
              <a:t>1995 - 6v6 and 7v7 Games on 40x36yard and 36x55 yard fields respectively</a:t>
            </a:r>
            <a:endParaRPr b="0" lang="en-US" sz="2600" spc="-1" strike="noStrike">
              <a:solidFill>
                <a:srgbClr val="010000"/>
              </a:solidFill>
              <a:latin typeface="Tahoma"/>
            </a:endParaRPr>
          </a:p>
          <a:p>
            <a:pPr marL="343080" indent="-343080">
              <a:spcBef>
                <a:spcPts val="2251"/>
              </a:spcBef>
              <a:buClr>
                <a:srgbClr val="01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Tahoma"/>
              </a:rPr>
              <a:t>2 x 5 yard wide goals used in all cases</a:t>
            </a:r>
            <a:r>
              <a:rPr b="0" lang="en-US" sz="3000" spc="-1" strike="noStrike">
                <a:solidFill>
                  <a:srgbClr val="010000"/>
                </a:solidFill>
                <a:latin typeface="Tahoma"/>
              </a:rPr>
              <a:t>	</a:t>
            </a:r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0c0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06080"/>
            <a:ext cx="60580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 u="sng">
                <a:solidFill>
                  <a:srgbClr val="010000"/>
                </a:solidFill>
                <a:uFillTx/>
                <a:latin typeface="Tahoma"/>
              </a:rPr>
              <a:t>11v11 On Smaller (68x95) Field</a:t>
            </a:r>
            <a:endParaRPr b="0" lang="en-US" sz="42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4560" y="1625760"/>
            <a:ext cx="4267080" cy="68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251"/>
              </a:spcBef>
              <a:buClr>
                <a:srgbClr val="01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Tahoma"/>
              </a:rPr>
              <a:t>High Lactate Levels - Over 4200 yards covered in 50 minutes</a:t>
            </a:r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  <a:p>
            <a:pPr marL="322200" indent="-322200">
              <a:spcBef>
                <a:spcPts val="2251"/>
              </a:spcBef>
              <a:buClr>
                <a:srgbClr val="01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Tahoma"/>
              </a:rPr>
              <a:t>Ball contacts - 38 average in midfield, only 20 on defense</a:t>
            </a:r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  <a:p>
            <a:pPr marL="322200" indent="-322200">
              <a:spcBef>
                <a:spcPts val="2251"/>
              </a:spcBef>
              <a:buClr>
                <a:srgbClr val="01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Tahoma"/>
              </a:rPr>
              <a:t>Tactics and rules too complicated for this age group</a:t>
            </a:r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  <a:p>
            <a:pPr marL="322200" indent="-322200">
              <a:spcBef>
                <a:spcPts val="2251"/>
              </a:spcBef>
              <a:buClr>
                <a:srgbClr val="01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66"/>
                </a:solidFill>
                <a:latin typeface="Tahoma"/>
              </a:rPr>
              <a:t>Conclusion: Totally inappropriate for this age group, high danger of “burnout”!</a:t>
            </a:r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  <a:p>
            <a:pPr marL="322200"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  <a:p>
            <a:pPr marL="322200"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608360" y="1676520"/>
            <a:ext cx="224964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0c0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43080" y="507600"/>
            <a:ext cx="62863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 u="sng">
                <a:solidFill>
                  <a:srgbClr val="010000"/>
                </a:solidFill>
                <a:uFillTx/>
                <a:latin typeface="Tahoma"/>
              </a:rPr>
              <a:t>7v7 on Half Field </a:t>
            </a:r>
            <a:r>
              <a:rPr b="1" lang="en-US" sz="3600" spc="-1" strike="noStrike" u="sng">
                <a:solidFill>
                  <a:srgbClr val="010000"/>
                </a:solidFill>
                <a:uFillTx/>
                <a:latin typeface="Tahoma"/>
              </a:rPr>
              <a:t>(50x70 yards.)</a:t>
            </a:r>
            <a:endParaRPr b="0" lang="en-US" sz="36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440" y="1930320"/>
            <a:ext cx="5886360" cy="650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2251"/>
              </a:spcBef>
              <a:buClr>
                <a:srgbClr val="01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Tahoma"/>
              </a:rPr>
              <a:t>Field is still too big for this age</a:t>
            </a:r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  <a:p>
            <a:pPr marL="329040" indent="-329040">
              <a:spcBef>
                <a:spcPts val="2251"/>
              </a:spcBef>
              <a:buClr>
                <a:srgbClr val="01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Tahoma"/>
              </a:rPr>
              <a:t>Hard to distribute players evenly</a:t>
            </a:r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  <a:p>
            <a:pPr marL="329040" indent="-329040">
              <a:spcBef>
                <a:spcPts val="2251"/>
              </a:spcBef>
              <a:buClr>
                <a:srgbClr val="01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Tahoma"/>
              </a:rPr>
              <a:t>No build up in midfield, goals are scored from long uncontrolled passes causing breakaways, or mistakes by opponents.</a:t>
            </a:r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  <a:p>
            <a:pPr marL="329040" indent="-329040">
              <a:spcBef>
                <a:spcPts val="2251"/>
              </a:spcBef>
              <a:buClr>
                <a:srgbClr val="01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Tahoma"/>
              </a:rPr>
              <a:t>No attacking imagination used or learned</a:t>
            </a:r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  <a:p>
            <a:pPr marL="329040" indent="-329040">
              <a:spcBef>
                <a:spcPts val="2251"/>
              </a:spcBef>
              <a:buClr>
                <a:srgbClr val="01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4a4fc"/>
                </a:solidFill>
                <a:latin typeface="Tahoma"/>
              </a:rPr>
              <a:t>Conclusion: Better than 11v11 but still not the best format</a:t>
            </a:r>
            <a:endParaRPr b="0" lang="en-US" sz="3000" spc="-1" strike="noStrike">
              <a:solidFill>
                <a:srgbClr val="01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0c0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68580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 u="sng">
                <a:solidFill>
                  <a:srgbClr val="010000"/>
                </a:solidFill>
                <a:uFillTx/>
                <a:latin typeface="Tahoma"/>
              </a:rPr>
              <a:t>Physical Stresses </a:t>
            </a:r>
            <a:br>
              <a:rPr sz="4200"/>
            </a:br>
            <a:r>
              <a:rPr b="0" lang="en-US" sz="2800" spc="-1" strike="noStrike">
                <a:solidFill>
                  <a:srgbClr val="010000"/>
                </a:solidFill>
                <a:latin typeface="Tahoma"/>
              </a:rPr>
              <a:t>Players cover 4236 yards in 25 minutes, compared to a professional Bundesliga player who cover only about 1000 yards more in the same period</a:t>
            </a:r>
            <a:endParaRPr b="0" lang="en-US" sz="2800" spc="-1" strike="noStrike">
              <a:solidFill>
                <a:srgbClr val="010000"/>
              </a:solidFill>
              <a:latin typeface="Tahoma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743040" y="3200400"/>
          <a:ext cx="5581440" cy="5486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3040" y="3200400"/>
                    <a:ext cx="5581440" cy="54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0c0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812880"/>
            <a:ext cx="622944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 u="sng">
                <a:solidFill>
                  <a:srgbClr val="010000"/>
                </a:solidFill>
                <a:uFillTx/>
                <a:latin typeface="Tahoma"/>
              </a:rPr>
              <a:t>4v4 on 40x30 (5v5 with GK)</a:t>
            </a:r>
            <a:endParaRPr b="0" lang="en-US" sz="42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234880"/>
            <a:ext cx="5657760" cy="67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1650"/>
              </a:spcBef>
              <a:buClr>
                <a:srgbClr val="01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10000"/>
                </a:solidFill>
                <a:latin typeface="Tahoma"/>
              </a:rPr>
              <a:t>Teaches all the building blocks</a:t>
            </a:r>
            <a:r>
              <a:rPr b="0" lang="en-US" sz="2200" spc="-1" strike="noStrike">
                <a:solidFill>
                  <a:srgbClr val="010000"/>
                </a:solidFill>
                <a:latin typeface="Tahoma"/>
              </a:rPr>
              <a:t> - dribbling,shooting, passing, ball control followed by dribbling and shooting</a:t>
            </a:r>
            <a:endParaRPr b="0" lang="en-US" sz="2200" spc="-1" strike="noStrike">
              <a:solidFill>
                <a:srgbClr val="010000"/>
              </a:solidFill>
              <a:latin typeface="Tahoma"/>
            </a:endParaRPr>
          </a:p>
          <a:p>
            <a:pPr marL="335880" indent="-335880">
              <a:spcBef>
                <a:spcPts val="1650"/>
              </a:spcBef>
              <a:buClr>
                <a:srgbClr val="01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Tahoma"/>
              </a:rPr>
              <a:t>Frequent 1v1 situations</a:t>
            </a:r>
            <a:endParaRPr b="0" lang="en-US" sz="2200" spc="-1" strike="noStrike">
              <a:solidFill>
                <a:srgbClr val="010000"/>
              </a:solidFill>
              <a:latin typeface="Tahoma"/>
            </a:endParaRPr>
          </a:p>
          <a:p>
            <a:pPr marL="335880" indent="-335880">
              <a:spcBef>
                <a:spcPts val="1650"/>
              </a:spcBef>
              <a:buClr>
                <a:srgbClr val="01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10000"/>
                </a:solidFill>
                <a:latin typeface="Tahoma"/>
              </a:rPr>
              <a:t>Attack oriented game</a:t>
            </a:r>
            <a:r>
              <a:rPr b="0" lang="en-US" sz="2200" spc="-1" strike="noStrike">
                <a:solidFill>
                  <a:srgbClr val="010000"/>
                </a:solidFill>
                <a:latin typeface="Tahoma"/>
              </a:rPr>
              <a:t> -frequency of shots much higher than any other game</a:t>
            </a:r>
            <a:endParaRPr b="0" lang="en-US" sz="2200" spc="-1" strike="noStrike">
              <a:solidFill>
                <a:srgbClr val="010000"/>
              </a:solidFill>
              <a:latin typeface="Tahoma"/>
            </a:endParaRPr>
          </a:p>
          <a:p>
            <a:pPr marL="335880" indent="-335880">
              <a:spcBef>
                <a:spcPts val="1650"/>
              </a:spcBef>
              <a:buClr>
                <a:srgbClr val="01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Tahoma"/>
              </a:rPr>
              <a:t>Few opportunities for tactical mistakes, therefore accent is on </a:t>
            </a:r>
            <a:r>
              <a:rPr b="1" lang="en-US" sz="2200" spc="-1" strike="noStrike">
                <a:solidFill>
                  <a:srgbClr val="010000"/>
                </a:solidFill>
                <a:latin typeface="Tahoma"/>
              </a:rPr>
              <a:t>technical training</a:t>
            </a:r>
            <a:endParaRPr b="0" lang="en-US" sz="2200" spc="-1" strike="noStrike">
              <a:solidFill>
                <a:srgbClr val="010000"/>
              </a:solidFill>
              <a:latin typeface="Tahoma"/>
            </a:endParaRPr>
          </a:p>
          <a:p>
            <a:pPr marL="335880" indent="-335880">
              <a:spcBef>
                <a:spcPts val="1650"/>
              </a:spcBef>
              <a:buClr>
                <a:srgbClr val="01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Tahoma"/>
              </a:rPr>
              <a:t>20x30 fields should be used for training</a:t>
            </a:r>
            <a:endParaRPr b="0" lang="en-US" sz="2200" spc="-1" strike="noStrike">
              <a:solidFill>
                <a:srgbClr val="010000"/>
              </a:solidFill>
              <a:latin typeface="Tahoma"/>
            </a:endParaRPr>
          </a:p>
          <a:p>
            <a:pPr marL="335880" indent="-335880">
              <a:spcBef>
                <a:spcPts val="1650"/>
              </a:spcBef>
              <a:buClr>
                <a:srgbClr val="01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5eb6a"/>
                </a:solidFill>
                <a:latin typeface="Tahoma"/>
              </a:rPr>
              <a:t>Conclusion: Provides the best vehicle for enjoyment and activity. </a:t>
            </a:r>
            <a:r>
              <a:rPr b="1" lang="en-US" sz="2200" spc="-1" strike="noStrike">
                <a:solidFill>
                  <a:srgbClr val="55eb6a"/>
                </a:solidFill>
                <a:latin typeface="Tahoma"/>
              </a:rPr>
              <a:t>A must for players who do not have a high level of technical development.</a:t>
            </a:r>
            <a:endParaRPr b="0" lang="en-US" sz="2200" spc="-1" strike="noStrike">
              <a:solidFill>
                <a:srgbClr val="01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0c0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42720" y="812520"/>
            <a:ext cx="63435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 u="sng">
                <a:solidFill>
                  <a:srgbClr val="010000"/>
                </a:solidFill>
                <a:uFillTx/>
                <a:latin typeface="Tahoma"/>
              </a:rPr>
              <a:t>7v7 in Smaller (35x55) Field</a:t>
            </a:r>
            <a:endParaRPr b="0" lang="en-US" sz="42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2235240"/>
            <a:ext cx="4800600" cy="650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50"/>
              </a:spcBef>
              <a:buClr>
                <a:srgbClr val="01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Tahoma"/>
              </a:rPr>
              <a:t>Optimal physical load on players</a:t>
            </a:r>
            <a:endParaRPr b="0" lang="en-US" sz="2200" spc="-1" strike="noStrike">
              <a:solidFill>
                <a:srgbClr val="010000"/>
              </a:solidFill>
              <a:latin typeface="Tahoma"/>
            </a:endParaRPr>
          </a:p>
          <a:p>
            <a:pPr marL="343080" indent="-343080">
              <a:spcBef>
                <a:spcPts val="1650"/>
              </a:spcBef>
              <a:buClr>
                <a:srgbClr val="01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Tahoma"/>
              </a:rPr>
              <a:t>Teaches flexible attacking and Defending</a:t>
            </a:r>
            <a:endParaRPr b="0" lang="en-US" sz="2200" spc="-1" strike="noStrike">
              <a:solidFill>
                <a:srgbClr val="010000"/>
              </a:solidFill>
              <a:latin typeface="Tahoma"/>
            </a:endParaRPr>
          </a:p>
          <a:p>
            <a:pPr marL="343080" indent="-343080">
              <a:spcBef>
                <a:spcPts val="1650"/>
              </a:spcBef>
              <a:buClr>
                <a:srgbClr val="01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Tahoma"/>
              </a:rPr>
              <a:t>Lots of Ball Contact - less talented players are involved more</a:t>
            </a:r>
            <a:endParaRPr b="0" lang="en-US" sz="2200" spc="-1" strike="noStrike">
              <a:solidFill>
                <a:srgbClr val="010000"/>
              </a:solidFill>
              <a:latin typeface="Tahoma"/>
            </a:endParaRPr>
          </a:p>
          <a:p>
            <a:pPr marL="343080" indent="-343080">
              <a:spcBef>
                <a:spcPts val="1650"/>
              </a:spcBef>
              <a:buClr>
                <a:srgbClr val="01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Tahoma"/>
              </a:rPr>
              <a:t>More opportunity to practice basic elements of good soccer</a:t>
            </a:r>
            <a:endParaRPr b="0" lang="en-US" sz="2200" spc="-1" strike="noStrike">
              <a:solidFill>
                <a:srgbClr val="010000"/>
              </a:solidFill>
              <a:latin typeface="Tahoma"/>
            </a:endParaRPr>
          </a:p>
          <a:p>
            <a:pPr marL="343080" indent="-343080">
              <a:spcBef>
                <a:spcPts val="1650"/>
              </a:spcBef>
              <a:buClr>
                <a:srgbClr val="01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Tahoma"/>
              </a:rPr>
              <a:t>More opportunities to attack and defend</a:t>
            </a:r>
            <a:endParaRPr b="0" lang="en-US" sz="2200" spc="-1" strike="noStrike">
              <a:solidFill>
                <a:srgbClr val="010000"/>
              </a:solidFill>
              <a:latin typeface="Tahoma"/>
            </a:endParaRPr>
          </a:p>
          <a:p>
            <a:pPr marL="343080" indent="-343080">
              <a:spcBef>
                <a:spcPts val="1650"/>
              </a:spcBef>
              <a:buClr>
                <a:srgbClr val="01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5eb6a"/>
                </a:solidFill>
                <a:latin typeface="Tahoma"/>
              </a:rPr>
              <a:t>Conclusion: The ideal game for young players with good technical ability, </a:t>
            </a:r>
            <a:r>
              <a:rPr b="1" lang="en-US" sz="2200" spc="-1" strike="noStrike">
                <a:solidFill>
                  <a:srgbClr val="55eb6a"/>
                </a:solidFill>
                <a:latin typeface="Tahoma"/>
              </a:rPr>
              <a:t>but it must be used in conjunction with 4v4 training and tournaments</a:t>
            </a:r>
            <a:endParaRPr b="0" lang="en-US" sz="2200" spc="-1" strike="noStrike">
              <a:solidFill>
                <a:srgbClr val="010000"/>
              </a:solidFill>
              <a:latin typeface="Tahom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5334120" y="2031840"/>
            <a:ext cx="1523880" cy="422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0c0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812520"/>
            <a:ext cx="5486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 u="sng">
                <a:solidFill>
                  <a:srgbClr val="010000"/>
                </a:solidFill>
                <a:uFillTx/>
                <a:latin typeface="Tahoma"/>
              </a:rPr>
              <a:t>Attacking Tactics in 7v7</a:t>
            </a:r>
            <a:br>
              <a:rPr sz="4200"/>
            </a:br>
            <a:br>
              <a:rPr sz="4200"/>
            </a:br>
            <a:r>
              <a:rPr b="0" lang="en-US" sz="3800" spc="-1" strike="noStrike">
                <a:solidFill>
                  <a:srgbClr val="010000"/>
                </a:solidFill>
                <a:latin typeface="Tahoma"/>
              </a:rPr>
              <a:t>Ideal Field Vs Half Field</a:t>
            </a:r>
            <a:endParaRPr b="0" lang="en-US" sz="3800" spc="-1" strike="noStrike">
              <a:solidFill>
                <a:srgbClr val="010000"/>
              </a:solidFill>
              <a:latin typeface="Tahoma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571680" y="2641680"/>
          <a:ext cx="5715000" cy="5892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1680" y="2641680"/>
                    <a:ext cx="5715000" cy="589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0c0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812520"/>
            <a:ext cx="5486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 u="sng">
                <a:solidFill>
                  <a:srgbClr val="010000"/>
                </a:solidFill>
                <a:uFillTx/>
                <a:latin typeface="Tahoma"/>
              </a:rPr>
              <a:t>Number of Ball Touches per Player in 10 Minutes</a:t>
            </a:r>
            <a:endParaRPr b="0" lang="en-US" sz="4200" spc="-1" strike="noStrike">
              <a:solidFill>
                <a:srgbClr val="010000"/>
              </a:solidFill>
              <a:latin typeface="Tahoma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685800" y="3048120"/>
          <a:ext cx="5638680" cy="558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3048120"/>
                    <a:ext cx="5638680" cy="558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9T15:14:46Z</dcterms:created>
  <dc:creator>Percy</dc:creator>
  <dc:description/>
  <dc:language>en-US</dc:language>
  <cp:lastModifiedBy>Coaches</cp:lastModifiedBy>
  <cp:lastPrinted>1999-01-30T16:44:23Z</cp:lastPrinted>
  <dcterms:modified xsi:type="dcterms:W3CDTF">2008-01-29T10:32:10Z</dcterms:modified>
  <cp:revision>3</cp:revision>
  <dc:subject/>
  <dc:title>Youth Soccer - What Game  Format is Best?  A Study by the Sports University of Cologne</dc:title>
</cp:coreProperties>
</file>