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AA799-F650-4224-823F-4B298F1765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1E654-B206-40E3-92E1-92EA1A02D3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AC42B-A2B2-4264-9B5F-1673776024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15E0E-D387-4AAF-B7D8-5696DC2A0E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B9E67-FF9C-4916-9945-D274917E02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C22CC-6AE0-4F30-9CB4-2774A3CD22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A8E47-0319-42ED-B85F-725E91F4EF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84BEAC-0890-494A-A2DD-09FE98742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DE9B95-88EA-469E-AA69-FCB561123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4D1528-4ECD-4941-A1A9-0402E2C37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AA8119-2105-41F5-9EF4-2D4FECF56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B8B72D-82BA-4461-96FA-16060E99C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AE1F85-909B-4855-A7B4-E698F5556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933C0E-B787-4339-9C3C-2E045A81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01E1B9-2BE8-416A-AF18-AC39E3F6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1C46D5-B503-4803-AAB2-1C373E2E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4873D0-3228-4BE2-AA88-265FBA939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576E00-7191-44E1-B3A4-9EA7BF5C4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36044B-0E80-4C54-88D4-22195F11C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DC5338-CD57-4FED-A5B3-F57769503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F1B7DF-321D-433D-9C03-34C1C1686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E50E9F-F470-4790-8577-E432DF60B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20AF88-A46E-4F02-9265-FF8D5D431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2B4D1A-2055-4D96-B2C5-AF79B7C46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6D83A2-6697-45BA-B714-53DE6B91D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82E712-3603-43D3-BCD7-280A8AF3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777452-4C16-49A0-B9A7-1F9B61705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256C40-A7D6-4680-BDC1-27E0D9E95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5CB280-5738-41CE-99AB-8C661646A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A96484-03A4-4D8F-B1B1-6CCCCECA1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B5FD01-458C-4664-92BA-C6C7E9D62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BLANK PITCH"/>
          <p:cNvPicPr/>
          <p:nvPr/>
        </p:nvPicPr>
        <p:blipFill>
          <a:blip r:embed="rId2">
            <a:lum bright="46000"/>
          </a:blip>
          <a:srcRect l="29885" t="0" r="427" b="0"/>
          <a:stretch/>
        </p:blipFill>
        <p:spPr>
          <a:xfrm>
            <a:off x="0" y="0"/>
            <a:ext cx="5508720" cy="68580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9" descr="http://www.tv-geisenfeld-la.de/assets/images/sprinter.gif"/>
          <p:cNvPicPr/>
          <p:nvPr/>
        </p:nvPicPr>
        <p:blipFill>
          <a:blip r:embed="rId3"/>
          <a:stretch/>
        </p:blipFill>
        <p:spPr>
          <a:xfrm>
            <a:off x="8532720" y="6093000"/>
            <a:ext cx="398520" cy="620640"/>
          </a:xfrm>
          <a:prstGeom prst="rect">
            <a:avLst/>
          </a:prstGeom>
          <a:ln w="0">
            <a:noFill/>
          </a:ln>
        </p:spPr>
      </p:pic>
      <p:sp>
        <p:nvSpPr>
          <p:cNvPr id="6" name="Text Box 11"/>
          <p:cNvSpPr/>
          <p:nvPr/>
        </p:nvSpPr>
        <p:spPr>
          <a:xfrm>
            <a:off x="179280" y="5589720"/>
            <a:ext cx="237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Path of the play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Path of the bal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Line 12"/>
          <p:cNvSpPr/>
          <p:nvPr/>
        </p:nvSpPr>
        <p:spPr>
          <a:xfrm>
            <a:off x="2268360" y="580536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Line 13"/>
          <p:cNvSpPr/>
          <p:nvPr/>
        </p:nvSpPr>
        <p:spPr>
          <a:xfrm>
            <a:off x="2124000" y="6093000"/>
            <a:ext cx="2664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Line 14"/>
          <p:cNvSpPr/>
          <p:nvPr/>
        </p:nvSpPr>
        <p:spPr>
          <a:xfrm>
            <a:off x="0" y="4581360"/>
            <a:ext cx="529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Line 15"/>
          <p:cNvSpPr/>
          <p:nvPr/>
        </p:nvSpPr>
        <p:spPr>
          <a:xfrm>
            <a:off x="971640" y="333360"/>
            <a:ext cx="0" cy="42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Text Box 19"/>
          <p:cNvSpPr/>
          <p:nvPr/>
        </p:nvSpPr>
        <p:spPr>
          <a:xfrm>
            <a:off x="7740720" y="6453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Verdana"/>
              </a:rPr>
              <a:t>PSC UK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" name="Picture 21" descr="http://www.google.co.uk/url?source=imgres&amp;ct=img&amp;q=http://www.easyhealth.org.uk/cmsimages/COPYRIGHT_585.gif&amp;usg=AFQjCNGjSoMfgFvm_ISHPRkTjJagrhcixw"/>
          <p:cNvPicPr/>
          <p:nvPr/>
        </p:nvPicPr>
        <p:blipFill>
          <a:blip r:embed="rId4"/>
          <a:srcRect l="12178" t="8676" r="13115" b="9132"/>
          <a:stretch/>
        </p:blipFill>
        <p:spPr>
          <a:xfrm>
            <a:off x="8748720" y="6524640"/>
            <a:ext cx="114120" cy="12852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2" descr="450px-Football_(soccer_ball)"/>
          <p:cNvPicPr/>
          <p:nvPr/>
        </p:nvPicPr>
        <p:blipFill>
          <a:blip r:embed="rId5"/>
          <a:stretch/>
        </p:blipFill>
        <p:spPr>
          <a:xfrm>
            <a:off x="4500720" y="4724280"/>
            <a:ext cx="287280" cy="30492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23" descr="450px-Football_(soccer_ball)"/>
          <p:cNvPicPr/>
          <p:nvPr/>
        </p:nvPicPr>
        <p:blipFill>
          <a:blip r:embed="rId6"/>
          <a:stretch/>
        </p:blipFill>
        <p:spPr>
          <a:xfrm>
            <a:off x="4716360" y="5084640"/>
            <a:ext cx="287280" cy="304920"/>
          </a:xfrm>
          <a:prstGeom prst="rect">
            <a:avLst/>
          </a:prstGeom>
          <a:ln w="0">
            <a:noFill/>
          </a:ln>
        </p:spPr>
      </p:pic>
      <p:pic>
        <p:nvPicPr>
          <p:cNvPr id="15" name="Picture 24" descr="450px-Football_(soccer_ball)"/>
          <p:cNvPicPr/>
          <p:nvPr/>
        </p:nvPicPr>
        <p:blipFill>
          <a:blip r:embed="rId7"/>
          <a:stretch/>
        </p:blipFill>
        <p:spPr>
          <a:xfrm>
            <a:off x="4859280" y="4724280"/>
            <a:ext cx="287280" cy="30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53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5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66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0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3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4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5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6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7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8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9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0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1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2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3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4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5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6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7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0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9964A-374B-4AEA-B13E-52101C18E539}" type="slidenum">
              <a:rPr b="0" lang="en-GB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33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5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6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5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6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7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9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0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171" name="Picture 46" descr="BLANK PITCH"/>
          <p:cNvPicPr/>
          <p:nvPr/>
        </p:nvPicPr>
        <p:blipFill>
          <a:blip r:embed="rId2">
            <a:lum bright="42000"/>
          </a:blip>
          <a:stretch/>
        </p:blipFill>
        <p:spPr>
          <a:xfrm>
            <a:off x="0" y="0"/>
            <a:ext cx="608472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76A78-5CAC-4065-9D1E-E3DD87D3C987}" type="slidenum">
              <a:rPr b="0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5724360" y="404640"/>
            <a:ext cx="3419640" cy="17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FUN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ATTACKING FROM CROSS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395280" y="1628640"/>
            <a:ext cx="48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WordArt 7"/>
          <p:cNvSpPr txBox="1"/>
          <p:nvPr/>
        </p:nvSpPr>
        <p:spPr>
          <a:xfrm>
            <a:off x="1692360" y="4797360"/>
            <a:ext cx="1800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arget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lay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324000" y="476280"/>
            <a:ext cx="52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     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Rectangle 20"/>
          <p:cNvSpPr/>
          <p:nvPr/>
        </p:nvSpPr>
        <p:spPr>
          <a:xfrm>
            <a:off x="5508720" y="1628640"/>
            <a:ext cx="3635280" cy="38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esigned to develop the understanding of a unit such as strikers and midfield players on their responsibility to attack crosses delivered with pace and into dangerous area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How to coach the team on primary, secondary and fringe players engaging all player in the uni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Line 22"/>
          <p:cNvSpPr/>
          <p:nvPr/>
        </p:nvSpPr>
        <p:spPr>
          <a:xfrm>
            <a:off x="2411280" y="5805360"/>
            <a:ext cx="23050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Text Box 24"/>
          <p:cNvSpPr/>
          <p:nvPr/>
        </p:nvSpPr>
        <p:spPr>
          <a:xfrm>
            <a:off x="179280" y="5589720"/>
            <a:ext cx="23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Path of the play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Text Box 38"/>
          <p:cNvSpPr/>
          <p:nvPr/>
        </p:nvSpPr>
        <p:spPr>
          <a:xfrm>
            <a:off x="1547640" y="1557360"/>
            <a:ext cx="360072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Create the Opportunity to cross the bal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Delivery metho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Prime Target Are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End Produc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Line 39"/>
          <p:cNvSpPr/>
          <p:nvPr/>
        </p:nvSpPr>
        <p:spPr>
          <a:xfrm flipH="1" flipV="1">
            <a:off x="1258560" y="692280"/>
            <a:ext cx="3816360" cy="2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Freeform 41"/>
          <p:cNvSpPr/>
          <p:nvPr/>
        </p:nvSpPr>
        <p:spPr>
          <a:xfrm>
            <a:off x="1116000" y="549360"/>
            <a:ext cx="1046160" cy="954000"/>
          </a:xfrm>
          <a:custGeom>
            <a:avLst/>
            <a:gdLst>
              <a:gd name="textAreaLeft" fmla="*/ 0 w 1046160"/>
              <a:gd name="textAreaRight" fmla="*/ 1046520 w 1046160"/>
              <a:gd name="textAreaTop" fmla="*/ 0 h 954000"/>
              <a:gd name="textAreaBottom" fmla="*/ 954360 h 954000"/>
            </a:gdLst>
            <a:ahLst/>
            <a:rect l="textAreaLeft" t="textAreaTop" r="textAreaRight" b="textAreaBottom"/>
            <a:pathLst>
              <a:path w="659" h="601">
                <a:moveTo>
                  <a:pt x="659" y="601"/>
                </a:moveTo>
                <a:cubicBezTo>
                  <a:pt x="652" y="601"/>
                  <a:pt x="551" y="599"/>
                  <a:pt x="518" y="585"/>
                </a:cubicBezTo>
                <a:cubicBezTo>
                  <a:pt x="508" y="581"/>
                  <a:pt x="501" y="573"/>
                  <a:pt x="492" y="568"/>
                </a:cubicBezTo>
                <a:cubicBezTo>
                  <a:pt x="428" y="537"/>
                  <a:pt x="351" y="523"/>
                  <a:pt x="284" y="501"/>
                </a:cubicBezTo>
                <a:cubicBezTo>
                  <a:pt x="265" y="488"/>
                  <a:pt x="242" y="482"/>
                  <a:pt x="225" y="468"/>
                </a:cubicBezTo>
                <a:cubicBezTo>
                  <a:pt x="217" y="462"/>
                  <a:pt x="216" y="450"/>
                  <a:pt x="209" y="443"/>
                </a:cubicBezTo>
                <a:cubicBezTo>
                  <a:pt x="156" y="389"/>
                  <a:pt x="213" y="469"/>
                  <a:pt x="159" y="401"/>
                </a:cubicBezTo>
                <a:cubicBezTo>
                  <a:pt x="101" y="327"/>
                  <a:pt x="152" y="372"/>
                  <a:pt x="92" y="326"/>
                </a:cubicBezTo>
                <a:cubicBezTo>
                  <a:pt x="55" y="222"/>
                  <a:pt x="0" y="113"/>
                  <a:pt x="0" y="0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Freeform 43"/>
          <p:cNvSpPr/>
          <p:nvPr/>
        </p:nvSpPr>
        <p:spPr>
          <a:xfrm>
            <a:off x="1112760" y="533520"/>
            <a:ext cx="684360" cy="1003320"/>
          </a:xfrm>
          <a:custGeom>
            <a:avLst/>
            <a:gdLst>
              <a:gd name="textAreaLeft" fmla="*/ 0 w 684360"/>
              <a:gd name="textAreaRight" fmla="*/ 684720 w 684360"/>
              <a:gd name="textAreaTop" fmla="*/ 0 h 1003320"/>
              <a:gd name="textAreaBottom" fmla="*/ 1003680 h 1003320"/>
            </a:gdLst>
            <a:ahLst/>
            <a:rect l="textAreaLeft" t="textAreaTop" r="textAreaRight" b="textAreaBottom"/>
            <a:pathLst>
              <a:path w="431" h="632">
                <a:moveTo>
                  <a:pt x="0" y="632"/>
                </a:moveTo>
                <a:cubicBezTo>
                  <a:pt x="10" y="612"/>
                  <a:pt x="25" y="595"/>
                  <a:pt x="34" y="574"/>
                </a:cubicBezTo>
                <a:cubicBezTo>
                  <a:pt x="63" y="507"/>
                  <a:pt x="30" y="538"/>
                  <a:pt x="75" y="507"/>
                </a:cubicBezTo>
                <a:cubicBezTo>
                  <a:pt x="120" y="441"/>
                  <a:pt x="148" y="359"/>
                  <a:pt x="201" y="298"/>
                </a:cubicBezTo>
                <a:cubicBezTo>
                  <a:pt x="235" y="258"/>
                  <a:pt x="272" y="219"/>
                  <a:pt x="309" y="182"/>
                </a:cubicBezTo>
                <a:cubicBezTo>
                  <a:pt x="337" y="154"/>
                  <a:pt x="354" y="113"/>
                  <a:pt x="376" y="81"/>
                </a:cubicBezTo>
                <a:cubicBezTo>
                  <a:pt x="431" y="0"/>
                  <a:pt x="383" y="93"/>
                  <a:pt x="409" y="40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5508720" y="0"/>
            <a:ext cx="3635280" cy="61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FUN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FINISHING FROM CROSS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Set u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Defending   Xs    GK 3-2-1  (6) Attacking    Os    T – 1-3-2 (6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Organis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The target player (T) can be used for both teams to recycle the ball and keep the game flowing, the defending team can score by passing to the target playe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Area coned off 2 yards outside far post to eliminate Right Back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Set up in the middle 1/3 of the  pitch to attack the final third straight awa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Coaching position near O4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Set up a Prime Target Area (PTA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The Start Point No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2 &amp; O3 complete a take in midfield but on the left side to draw defend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3 passes quickly to O4 wid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4 creates space to receive and tur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395280" y="1628640"/>
            <a:ext cx="48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395280" y="0"/>
            <a:ext cx="5040360" cy="68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           </a:t>
            </a: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GK</a:t>
            </a:r>
            <a:r>
              <a:rPr b="1" lang="en-GB" sz="24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6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X1     X2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05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     X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                        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0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         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X4          X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3             0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         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3 </a:t>
            </a: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                                             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X6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                   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    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WordArt 5"/>
          <p:cNvSpPr txBox="1"/>
          <p:nvPr/>
        </p:nvSpPr>
        <p:spPr>
          <a:xfrm>
            <a:off x="1908000" y="4724280"/>
            <a:ext cx="1800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Target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lay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35" name="Line 6"/>
          <p:cNvSpPr/>
          <p:nvPr/>
        </p:nvSpPr>
        <p:spPr>
          <a:xfrm flipH="1" flipV="1">
            <a:off x="1402920" y="3284280"/>
            <a:ext cx="1297080" cy="1443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6" name="Picture 7" descr="450px-Football_(soccer_ball)"/>
          <p:cNvPicPr/>
          <p:nvPr/>
        </p:nvPicPr>
        <p:blipFill>
          <a:blip r:embed="rId1"/>
          <a:stretch/>
        </p:blipFill>
        <p:spPr>
          <a:xfrm>
            <a:off x="2411280" y="3284640"/>
            <a:ext cx="287640" cy="304560"/>
          </a:xfrm>
          <a:prstGeom prst="rect">
            <a:avLst/>
          </a:prstGeom>
          <a:ln w="0">
            <a:noFill/>
          </a:ln>
        </p:spPr>
      </p:pic>
      <p:sp>
        <p:nvSpPr>
          <p:cNvPr id="237" name="Line 8"/>
          <p:cNvSpPr/>
          <p:nvPr/>
        </p:nvSpPr>
        <p:spPr>
          <a:xfrm>
            <a:off x="1763640" y="3573360"/>
            <a:ext cx="1224000" cy="287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8" name="Picture 9" descr="450px-Football_(soccer_ball)"/>
          <p:cNvPicPr/>
          <p:nvPr/>
        </p:nvPicPr>
        <p:blipFill>
          <a:blip r:embed="rId2"/>
          <a:stretch/>
        </p:blipFill>
        <p:spPr>
          <a:xfrm>
            <a:off x="3276720" y="3645000"/>
            <a:ext cx="287280" cy="304560"/>
          </a:xfrm>
          <a:prstGeom prst="rect">
            <a:avLst/>
          </a:prstGeom>
          <a:ln w="0">
            <a:noFill/>
          </a:ln>
        </p:spPr>
      </p:pic>
      <p:sp>
        <p:nvSpPr>
          <p:cNvPr id="239" name="Line 10"/>
          <p:cNvSpPr/>
          <p:nvPr/>
        </p:nvSpPr>
        <p:spPr>
          <a:xfrm flipV="1">
            <a:off x="3635280" y="2707920"/>
            <a:ext cx="1152720" cy="865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WordArt 11"/>
          <p:cNvSpPr txBox="1"/>
          <p:nvPr/>
        </p:nvSpPr>
        <p:spPr>
          <a:xfrm>
            <a:off x="5292720" y="1773360"/>
            <a:ext cx="176040" cy="25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41" name="Text Box 12"/>
          <p:cNvSpPr/>
          <p:nvPr/>
        </p:nvSpPr>
        <p:spPr>
          <a:xfrm>
            <a:off x="1258920" y="549360"/>
            <a:ext cx="64908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PT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5508720" y="115920"/>
            <a:ext cx="3635280" cy="64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FUN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FINISHNG FROM CROSS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Picture/Scenario No1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Early Ball in Behind defend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4 receives the ball and immediately crosses the ball behind X1 &amp; X2 before X3 can recove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</a:rPr>
              <a:t>Coach the Follow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Primary Play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How O4 creates space to receive the ball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How O4 executes a low curling pass behind X1 &amp; X2 which eliminates the keepe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Secondary Play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How O5 &amp; O6 move off the shoulder to attacking posi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Front and far post runs across defenders to execute an end produ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Fringe Play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2 Support  with O3 Holding ro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395280" y="1628640"/>
            <a:ext cx="48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95280" y="0"/>
            <a:ext cx="5040360" cy="68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Verdana"/>
              </a:rPr>
              <a:t>        </a:t>
            </a: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G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6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X1     X2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05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     X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                        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0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         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X4          X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0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         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3 </a:t>
            </a: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                                             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X6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                   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    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WordArt 5"/>
          <p:cNvSpPr txBox="1"/>
          <p:nvPr/>
        </p:nvSpPr>
        <p:spPr>
          <a:xfrm>
            <a:off x="1908000" y="4724280"/>
            <a:ext cx="1800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Target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lay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46" name="Line 6"/>
          <p:cNvSpPr/>
          <p:nvPr/>
        </p:nvSpPr>
        <p:spPr>
          <a:xfrm flipH="1" flipV="1">
            <a:off x="2195280" y="2707920"/>
            <a:ext cx="215640" cy="576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Line 8"/>
          <p:cNvSpPr/>
          <p:nvPr/>
        </p:nvSpPr>
        <p:spPr>
          <a:xfrm flipV="1">
            <a:off x="5003640" y="220500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8" name="Picture 9" descr="450px-Football_(soccer_ball)"/>
          <p:cNvPicPr/>
          <p:nvPr/>
        </p:nvPicPr>
        <p:blipFill>
          <a:blip r:embed="rId1"/>
          <a:stretch/>
        </p:blipFill>
        <p:spPr>
          <a:xfrm>
            <a:off x="4859280" y="1916280"/>
            <a:ext cx="287280" cy="304560"/>
          </a:xfrm>
          <a:prstGeom prst="rect">
            <a:avLst/>
          </a:prstGeom>
          <a:ln w="0">
            <a:noFill/>
          </a:ln>
        </p:spPr>
      </p:pic>
      <p:sp>
        <p:nvSpPr>
          <p:cNvPr id="249" name="Line 10"/>
          <p:cNvSpPr/>
          <p:nvPr/>
        </p:nvSpPr>
        <p:spPr>
          <a:xfrm flipV="1">
            <a:off x="3635280" y="2707920"/>
            <a:ext cx="1152720" cy="865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WordArt 11"/>
          <p:cNvSpPr txBox="1"/>
          <p:nvPr/>
        </p:nvSpPr>
        <p:spPr>
          <a:xfrm>
            <a:off x="5292720" y="1773360"/>
            <a:ext cx="176040" cy="25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51" name="Text Box 13"/>
          <p:cNvSpPr/>
          <p:nvPr/>
        </p:nvSpPr>
        <p:spPr>
          <a:xfrm>
            <a:off x="1187280" y="620640"/>
            <a:ext cx="86364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P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Line 14"/>
          <p:cNvSpPr/>
          <p:nvPr/>
        </p:nvSpPr>
        <p:spPr>
          <a:xfrm flipH="1" flipV="1">
            <a:off x="1403280" y="1628280"/>
            <a:ext cx="3384720" cy="36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Freeform 15"/>
          <p:cNvSpPr/>
          <p:nvPr/>
        </p:nvSpPr>
        <p:spPr>
          <a:xfrm>
            <a:off x="1908000" y="1989000"/>
            <a:ext cx="1033560" cy="516240"/>
          </a:xfrm>
          <a:custGeom>
            <a:avLst/>
            <a:gdLst>
              <a:gd name="textAreaLeft" fmla="*/ 0 w 1033560"/>
              <a:gd name="textAreaRight" fmla="*/ 1033920 w 1033560"/>
              <a:gd name="textAreaTop" fmla="*/ 0 h 516240"/>
              <a:gd name="textAreaBottom" fmla="*/ 516600 h 516240"/>
            </a:gdLst>
            <a:ahLst/>
            <a:rect l="textAreaLeft" t="textAreaTop" r="textAreaRight" b="textAreaBottom"/>
            <a:pathLst>
              <a:path w="526" h="259">
                <a:moveTo>
                  <a:pt x="526" y="175"/>
                </a:moveTo>
                <a:cubicBezTo>
                  <a:pt x="490" y="231"/>
                  <a:pt x="436" y="243"/>
                  <a:pt x="376" y="259"/>
                </a:cubicBezTo>
                <a:cubicBezTo>
                  <a:pt x="326" y="256"/>
                  <a:pt x="276" y="256"/>
                  <a:pt x="226" y="250"/>
                </a:cubicBezTo>
                <a:cubicBezTo>
                  <a:pt x="209" y="248"/>
                  <a:pt x="176" y="234"/>
                  <a:pt x="176" y="234"/>
                </a:cubicBezTo>
                <a:cubicBezTo>
                  <a:pt x="152" y="210"/>
                  <a:pt x="137" y="186"/>
                  <a:pt x="109" y="167"/>
                </a:cubicBezTo>
                <a:cubicBezTo>
                  <a:pt x="88" y="110"/>
                  <a:pt x="117" y="177"/>
                  <a:pt x="75" y="117"/>
                </a:cubicBezTo>
                <a:cubicBezTo>
                  <a:pt x="52" y="84"/>
                  <a:pt x="53" y="65"/>
                  <a:pt x="17" y="42"/>
                </a:cubicBezTo>
                <a:cubicBezTo>
                  <a:pt x="7" y="11"/>
                  <a:pt x="13" y="25"/>
                  <a:pt x="0" y="0"/>
                </a:cubicBezTo>
              </a:path>
            </a:pathLst>
          </a:custGeom>
          <a:noFill/>
          <a:ln w="284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Line 16"/>
          <p:cNvSpPr/>
          <p:nvPr/>
        </p:nvSpPr>
        <p:spPr>
          <a:xfrm flipV="1">
            <a:off x="1908000" y="907560"/>
            <a:ext cx="0" cy="10083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Line 17"/>
          <p:cNvSpPr/>
          <p:nvPr/>
        </p:nvSpPr>
        <p:spPr>
          <a:xfrm flipV="1">
            <a:off x="1116000" y="981000"/>
            <a:ext cx="71280" cy="10080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Line 18"/>
          <p:cNvSpPr/>
          <p:nvPr/>
        </p:nvSpPr>
        <p:spPr>
          <a:xfrm flipV="1">
            <a:off x="4643280" y="3645000"/>
            <a:ext cx="360360" cy="576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5508720" y="189000"/>
            <a:ext cx="3635280" cy="63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FUN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FINISHING FROM CROSS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Picture/Scenario No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Delivery from the wide play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4 receives the ball takes on X3 and crosses the ball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</a:rPr>
              <a:t>Coach the Follow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Primary Play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How O4 beats X3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How O4 executes a cross into the PTA with pace and just above knee heigh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Secondary Play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How O5 &amp; O6 move off the shoulder to attacking positions executing a cross ove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6 attacks near po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5 attacks far po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Fringe Play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2 Supports and O3 Hol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395280" y="1628640"/>
            <a:ext cx="48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95280" y="0"/>
            <a:ext cx="5040360" cy="63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Verdana"/>
              </a:rPr>
              <a:t>        </a:t>
            </a: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G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6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X1  X2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05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           X3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0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         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X4          X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0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         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3 </a:t>
            </a: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                                             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X6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                   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    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WordArt 5"/>
          <p:cNvSpPr txBox="1"/>
          <p:nvPr/>
        </p:nvSpPr>
        <p:spPr>
          <a:xfrm>
            <a:off x="1908000" y="4724280"/>
            <a:ext cx="1800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Target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lay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61" name="Line 6"/>
          <p:cNvSpPr/>
          <p:nvPr/>
        </p:nvSpPr>
        <p:spPr>
          <a:xfrm flipH="1" flipV="1">
            <a:off x="2050920" y="2204640"/>
            <a:ext cx="216000" cy="576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2" name="Picture 8" descr="450px-Football_(soccer_ball)"/>
          <p:cNvPicPr/>
          <p:nvPr/>
        </p:nvPicPr>
        <p:blipFill>
          <a:blip r:embed="rId1"/>
          <a:stretch/>
        </p:blipFill>
        <p:spPr>
          <a:xfrm>
            <a:off x="4716360" y="1125360"/>
            <a:ext cx="287280" cy="304920"/>
          </a:xfrm>
          <a:prstGeom prst="rect">
            <a:avLst/>
          </a:prstGeom>
          <a:ln w="0">
            <a:noFill/>
          </a:ln>
        </p:spPr>
      </p:pic>
      <p:sp>
        <p:nvSpPr>
          <p:cNvPr id="263" name="WordArt 10"/>
          <p:cNvSpPr txBox="1"/>
          <p:nvPr/>
        </p:nvSpPr>
        <p:spPr>
          <a:xfrm>
            <a:off x="5292720" y="1773360"/>
            <a:ext cx="176040" cy="25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64" name="Text Box 11"/>
          <p:cNvSpPr/>
          <p:nvPr/>
        </p:nvSpPr>
        <p:spPr>
          <a:xfrm>
            <a:off x="1187280" y="620640"/>
            <a:ext cx="86364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P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Line 12"/>
          <p:cNvSpPr/>
          <p:nvPr/>
        </p:nvSpPr>
        <p:spPr>
          <a:xfrm flipH="1" flipV="1">
            <a:off x="2050560" y="836280"/>
            <a:ext cx="2592360" cy="431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Line 15"/>
          <p:cNvSpPr/>
          <p:nvPr/>
        </p:nvSpPr>
        <p:spPr>
          <a:xfrm flipV="1">
            <a:off x="1403280" y="549000"/>
            <a:ext cx="720720" cy="863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Line 16"/>
          <p:cNvSpPr/>
          <p:nvPr/>
        </p:nvSpPr>
        <p:spPr>
          <a:xfrm flipV="1">
            <a:off x="4643280" y="2565360"/>
            <a:ext cx="360360" cy="1008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Freeform 17"/>
          <p:cNvSpPr/>
          <p:nvPr/>
        </p:nvSpPr>
        <p:spPr>
          <a:xfrm>
            <a:off x="1125360" y="542880"/>
            <a:ext cx="1776600" cy="1301760"/>
          </a:xfrm>
          <a:custGeom>
            <a:avLst/>
            <a:gdLst>
              <a:gd name="textAreaLeft" fmla="*/ 0 w 1776600"/>
              <a:gd name="textAreaRight" fmla="*/ 1776960 w 1776600"/>
              <a:gd name="textAreaTop" fmla="*/ 0 h 1301760"/>
              <a:gd name="textAreaBottom" fmla="*/ 1302120 h 1301760"/>
            </a:gdLst>
            <a:ahLst/>
            <a:rect l="textAreaLeft" t="textAreaTop" r="textAreaRight" b="textAreaBottom"/>
            <a:pathLst>
              <a:path w="1119" h="919">
                <a:moveTo>
                  <a:pt x="1119" y="793"/>
                </a:moveTo>
                <a:cubicBezTo>
                  <a:pt x="1076" y="822"/>
                  <a:pt x="1021" y="865"/>
                  <a:pt x="969" y="877"/>
                </a:cubicBezTo>
                <a:cubicBezTo>
                  <a:pt x="900" y="893"/>
                  <a:pt x="827" y="895"/>
                  <a:pt x="760" y="919"/>
                </a:cubicBezTo>
                <a:cubicBezTo>
                  <a:pt x="612" y="913"/>
                  <a:pt x="480" y="897"/>
                  <a:pt x="334" y="885"/>
                </a:cubicBezTo>
                <a:cubicBezTo>
                  <a:pt x="326" y="882"/>
                  <a:pt x="317" y="879"/>
                  <a:pt x="309" y="877"/>
                </a:cubicBezTo>
                <a:cubicBezTo>
                  <a:pt x="298" y="874"/>
                  <a:pt x="287" y="871"/>
                  <a:pt x="276" y="868"/>
                </a:cubicBezTo>
                <a:cubicBezTo>
                  <a:pt x="259" y="863"/>
                  <a:pt x="226" y="852"/>
                  <a:pt x="226" y="852"/>
                </a:cubicBezTo>
                <a:cubicBezTo>
                  <a:pt x="186" y="825"/>
                  <a:pt x="143" y="813"/>
                  <a:pt x="101" y="785"/>
                </a:cubicBezTo>
                <a:cubicBezTo>
                  <a:pt x="93" y="779"/>
                  <a:pt x="84" y="774"/>
                  <a:pt x="76" y="768"/>
                </a:cubicBezTo>
                <a:cubicBezTo>
                  <a:pt x="68" y="763"/>
                  <a:pt x="51" y="752"/>
                  <a:pt x="51" y="752"/>
                </a:cubicBezTo>
                <a:cubicBezTo>
                  <a:pt x="34" y="727"/>
                  <a:pt x="27" y="704"/>
                  <a:pt x="17" y="676"/>
                </a:cubicBezTo>
                <a:cubicBezTo>
                  <a:pt x="8" y="521"/>
                  <a:pt x="0" y="394"/>
                  <a:pt x="9" y="234"/>
                </a:cubicBezTo>
                <a:cubicBezTo>
                  <a:pt x="12" y="187"/>
                  <a:pt x="34" y="142"/>
                  <a:pt x="51" y="100"/>
                </a:cubicBezTo>
                <a:cubicBezTo>
                  <a:pt x="61" y="75"/>
                  <a:pt x="68" y="50"/>
                  <a:pt x="76" y="25"/>
                </a:cubicBezTo>
                <a:cubicBezTo>
                  <a:pt x="79" y="17"/>
                  <a:pt x="84" y="0"/>
                  <a:pt x="84" y="0"/>
                </a:cubicBezTo>
              </a:path>
            </a:pathLst>
          </a:custGeom>
          <a:noFill/>
          <a:ln w="284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2"/>
          <p:cNvSpPr/>
          <p:nvPr/>
        </p:nvSpPr>
        <p:spPr>
          <a:xfrm>
            <a:off x="5508720" y="189000"/>
            <a:ext cx="3635280" cy="63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FUN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FINISHING FROM CROSS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Picture/Scenario No3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Cross from set to O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4 receives the ball takes X3 into the corner and sets o1 fro the cros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</a:rPr>
              <a:t>Coach the Follow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How O4 takes X3 awa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How O1 executes a cross into the PTA with pace and just above knee heigh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How the cross beats the first defender X5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How O5 &amp; O6 reshape ready to attack the cros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6 attacks near po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5 attacks far po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End produ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2 Support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3 Hol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395280" y="1628640"/>
            <a:ext cx="48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395280" y="0"/>
            <a:ext cx="5040360" cy="58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Verdana"/>
              </a:rPr>
              <a:t>        </a:t>
            </a: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G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6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X1  X2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05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           X3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0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                                    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X5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         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X4             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02                           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X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         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3 </a:t>
            </a: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                   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    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WordArt 5"/>
          <p:cNvSpPr txBox="1"/>
          <p:nvPr/>
        </p:nvSpPr>
        <p:spPr>
          <a:xfrm>
            <a:off x="1979640" y="3716280"/>
            <a:ext cx="1800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Target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lay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73" name="Line 6"/>
          <p:cNvSpPr/>
          <p:nvPr/>
        </p:nvSpPr>
        <p:spPr>
          <a:xfrm flipH="1" flipV="1">
            <a:off x="2050920" y="1267920"/>
            <a:ext cx="216000" cy="5763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4" name="Picture 7" descr="450px-Football_(soccer_ball)"/>
          <p:cNvPicPr/>
          <p:nvPr/>
        </p:nvPicPr>
        <p:blipFill>
          <a:blip r:embed="rId1"/>
          <a:stretch/>
        </p:blipFill>
        <p:spPr>
          <a:xfrm>
            <a:off x="4500720" y="1413000"/>
            <a:ext cx="287280" cy="304560"/>
          </a:xfrm>
          <a:prstGeom prst="rect">
            <a:avLst/>
          </a:prstGeom>
          <a:ln w="0">
            <a:noFill/>
          </a:ln>
        </p:spPr>
      </p:pic>
      <p:sp>
        <p:nvSpPr>
          <p:cNvPr id="275" name="WordArt 8"/>
          <p:cNvSpPr txBox="1"/>
          <p:nvPr/>
        </p:nvSpPr>
        <p:spPr>
          <a:xfrm>
            <a:off x="5292720" y="1773360"/>
            <a:ext cx="176040" cy="25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76" name="Line 10"/>
          <p:cNvSpPr/>
          <p:nvPr/>
        </p:nvSpPr>
        <p:spPr>
          <a:xfrm flipH="1" flipV="1">
            <a:off x="2050560" y="836280"/>
            <a:ext cx="2449800" cy="64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Line 11"/>
          <p:cNvSpPr/>
          <p:nvPr/>
        </p:nvSpPr>
        <p:spPr>
          <a:xfrm flipV="1">
            <a:off x="1403280" y="476280"/>
            <a:ext cx="432000" cy="3873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Line 12"/>
          <p:cNvSpPr/>
          <p:nvPr/>
        </p:nvSpPr>
        <p:spPr>
          <a:xfrm flipH="1" flipV="1">
            <a:off x="2268000" y="2636640"/>
            <a:ext cx="862200" cy="215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Freeform 13"/>
          <p:cNvSpPr/>
          <p:nvPr/>
        </p:nvSpPr>
        <p:spPr>
          <a:xfrm>
            <a:off x="1116000" y="476280"/>
            <a:ext cx="1631880" cy="582480"/>
          </a:xfrm>
          <a:custGeom>
            <a:avLst/>
            <a:gdLst>
              <a:gd name="textAreaLeft" fmla="*/ 0 w 1631880"/>
              <a:gd name="textAreaRight" fmla="*/ 1632240 w 1631880"/>
              <a:gd name="textAreaTop" fmla="*/ 0 h 582480"/>
              <a:gd name="textAreaBottom" fmla="*/ 582840 h 582480"/>
            </a:gdLst>
            <a:ahLst/>
            <a:rect l="textAreaLeft" t="textAreaTop" r="textAreaRight" b="textAreaBottom"/>
            <a:pathLst>
              <a:path w="1119" h="919">
                <a:moveTo>
                  <a:pt x="1119" y="793"/>
                </a:moveTo>
                <a:cubicBezTo>
                  <a:pt x="1076" y="822"/>
                  <a:pt x="1021" y="865"/>
                  <a:pt x="969" y="877"/>
                </a:cubicBezTo>
                <a:cubicBezTo>
                  <a:pt x="900" y="893"/>
                  <a:pt x="827" y="895"/>
                  <a:pt x="760" y="919"/>
                </a:cubicBezTo>
                <a:cubicBezTo>
                  <a:pt x="612" y="913"/>
                  <a:pt x="480" y="897"/>
                  <a:pt x="334" y="885"/>
                </a:cubicBezTo>
                <a:cubicBezTo>
                  <a:pt x="326" y="882"/>
                  <a:pt x="317" y="879"/>
                  <a:pt x="309" y="877"/>
                </a:cubicBezTo>
                <a:cubicBezTo>
                  <a:pt x="298" y="874"/>
                  <a:pt x="287" y="871"/>
                  <a:pt x="276" y="868"/>
                </a:cubicBezTo>
                <a:cubicBezTo>
                  <a:pt x="259" y="863"/>
                  <a:pt x="226" y="852"/>
                  <a:pt x="226" y="852"/>
                </a:cubicBezTo>
                <a:cubicBezTo>
                  <a:pt x="186" y="825"/>
                  <a:pt x="143" y="813"/>
                  <a:pt x="101" y="785"/>
                </a:cubicBezTo>
                <a:cubicBezTo>
                  <a:pt x="93" y="779"/>
                  <a:pt x="84" y="774"/>
                  <a:pt x="76" y="768"/>
                </a:cubicBezTo>
                <a:cubicBezTo>
                  <a:pt x="68" y="763"/>
                  <a:pt x="51" y="752"/>
                  <a:pt x="51" y="752"/>
                </a:cubicBezTo>
                <a:cubicBezTo>
                  <a:pt x="34" y="727"/>
                  <a:pt x="27" y="704"/>
                  <a:pt x="17" y="676"/>
                </a:cubicBezTo>
                <a:cubicBezTo>
                  <a:pt x="8" y="521"/>
                  <a:pt x="0" y="394"/>
                  <a:pt x="9" y="234"/>
                </a:cubicBezTo>
                <a:cubicBezTo>
                  <a:pt x="12" y="187"/>
                  <a:pt x="34" y="142"/>
                  <a:pt x="51" y="100"/>
                </a:cubicBezTo>
                <a:cubicBezTo>
                  <a:pt x="61" y="75"/>
                  <a:pt x="68" y="50"/>
                  <a:pt x="76" y="25"/>
                </a:cubicBezTo>
                <a:cubicBezTo>
                  <a:pt x="79" y="17"/>
                  <a:pt x="84" y="0"/>
                  <a:pt x="84" y="0"/>
                </a:cubicBezTo>
              </a:path>
            </a:pathLst>
          </a:custGeom>
          <a:noFill/>
          <a:ln w="284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Line 14"/>
          <p:cNvSpPr/>
          <p:nvPr/>
        </p:nvSpPr>
        <p:spPr>
          <a:xfrm>
            <a:off x="4788000" y="907920"/>
            <a:ext cx="71280" cy="576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5508720" y="259920"/>
            <a:ext cx="3456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FINISHING FROM CROS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Confirmation or 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Do the players understand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ow to deliver a quality cross into the PTA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ow to create move to move and confuse defender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ow to work as unit to attack varying areas in the PTA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Understand how you must keep cover and balanc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Have you the C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lected the right players to execute quality crosse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vided the right technical information for attackers to achieve success in the sessio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aches primary, secondary and fringe player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rrected faults???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lanned variation of scenario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6"/>
          <p:cNvSpPr/>
          <p:nvPr/>
        </p:nvSpPr>
        <p:spPr>
          <a:xfrm>
            <a:off x="900000" y="333360"/>
            <a:ext cx="374328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Moment of Refle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The attack is only as good as the cro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You should ensure that the wide players are capable of delivering a quality cro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7T13:37:13Z</dcterms:created>
  <dc:creator>Jed Starkey</dc:creator>
  <dc:description/>
  <dc:language>en-US</dc:language>
  <cp:lastModifiedBy>Myerscough</cp:lastModifiedBy>
  <dcterms:modified xsi:type="dcterms:W3CDTF">2010-03-25T22:25:06Z</dcterms:modified>
  <cp:revision>222</cp:revision>
  <dc:subject/>
  <dc:title>Slide 1</dc:title>
</cp:coreProperties>
</file>