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40BD-B3BE-4F71-B6AF-D3CBD7C4B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61C3-3114-488F-A975-0F7BC03EB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EDE9-378A-4A35-9F93-043499F12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3CB5-C72D-4EC2-B4E8-03A635B959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30F1-0FDB-4B14-8BF2-D5C588E92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75FC-F5EA-4F2F-A04B-BFFBC2502F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F588-91E2-4190-B649-4B36E2517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CC30F-FAB8-423F-8502-4AE43089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43E46-6709-4BBF-87E3-2E898CB0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0C9D9-0EC2-4064-B968-3C655689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F8BE7-8E4C-4B55-8F94-097464E1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D4EBA-4BD7-4FEB-ABE3-9A653CE3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4F213-7CBD-4E4D-B05A-D2962298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E0201-25B0-4C37-8AB9-A14678ED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AA560-6CB9-447C-8605-61F6BC07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28415-F463-4E56-8453-B9B9E498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BCCA1-CBC7-4A65-AE1B-EFB10D41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23B01-8BDC-4A14-8FB2-BE9308D1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224AE-B14F-4B2C-9AF0-E5655A14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71376-74B6-429B-AC63-E0716856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6ABB5-850C-4B18-A891-9E9AA236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E66A1-7E3C-42C9-919B-6BA61134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5A14F-6F28-464B-9EB1-C9990FFD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5FEA0-3878-4595-949F-78D2CCE5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DC2B5-D1FC-49C6-8936-349748EE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C7B14-2F50-43FA-A9CD-AA686D4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655FE-6675-4BD5-9478-6AB74B82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41CA3-16C1-4D87-93A7-504C3449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647DE-DD53-4488-9FF6-2756007B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29E7E-F899-4F5A-B436-5513335C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F65DB-AC04-4193-AD89-B7A40D64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6000"/>
          </a:blip>
          <a:srcRect l="29885" t="0" r="427" b="0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179280" y="5589720"/>
            <a:ext cx="23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268360" y="580536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2124000" y="60930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458136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971640" y="333360"/>
            <a:ext cx="0" cy="42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4500720" y="4724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716360" y="508464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4859280" y="4724280"/>
            <a:ext cx="28728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60D2-E57D-4F3E-82E0-3F2592DF45C4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1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FA8D-FDFC-4F15-B151-E7DC4824BC01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724360" y="404640"/>
            <a:ext cx="34196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ATTACKING FROM CRO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692360" y="479736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5508720" y="1628640"/>
            <a:ext cx="363528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attack crosses delivered with pace and into dangerous are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2411280" y="580536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79280" y="55897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1547640" y="1557360"/>
            <a:ext cx="36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ime Target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9"/>
          <p:cNvSpPr/>
          <p:nvPr/>
        </p:nvSpPr>
        <p:spPr>
          <a:xfrm flipH="1" flipV="1">
            <a:off x="1258560" y="692280"/>
            <a:ext cx="381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41"/>
          <p:cNvSpPr/>
          <p:nvPr/>
        </p:nvSpPr>
        <p:spPr>
          <a:xfrm>
            <a:off x="1116000" y="549360"/>
            <a:ext cx="1046160" cy="95400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659" h="601">
                <a:moveTo>
                  <a:pt x="659" y="601"/>
                </a:moveTo>
                <a:cubicBezTo>
                  <a:pt x="652" y="601"/>
                  <a:pt x="551" y="599"/>
                  <a:pt x="518" y="585"/>
                </a:cubicBezTo>
                <a:cubicBezTo>
                  <a:pt x="508" y="581"/>
                  <a:pt x="501" y="573"/>
                  <a:pt x="492" y="568"/>
                </a:cubicBezTo>
                <a:cubicBezTo>
                  <a:pt x="428" y="537"/>
                  <a:pt x="351" y="523"/>
                  <a:pt x="284" y="501"/>
                </a:cubicBezTo>
                <a:cubicBezTo>
                  <a:pt x="265" y="488"/>
                  <a:pt x="242" y="482"/>
                  <a:pt x="225" y="468"/>
                </a:cubicBezTo>
                <a:cubicBezTo>
                  <a:pt x="217" y="462"/>
                  <a:pt x="216" y="450"/>
                  <a:pt x="209" y="443"/>
                </a:cubicBezTo>
                <a:cubicBezTo>
                  <a:pt x="156" y="389"/>
                  <a:pt x="213" y="469"/>
                  <a:pt x="159" y="401"/>
                </a:cubicBezTo>
                <a:cubicBezTo>
                  <a:pt x="101" y="327"/>
                  <a:pt x="152" y="372"/>
                  <a:pt x="92" y="326"/>
                </a:cubicBezTo>
                <a:cubicBezTo>
                  <a:pt x="55" y="222"/>
                  <a:pt x="0" y="1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Freeform 43"/>
          <p:cNvSpPr/>
          <p:nvPr/>
        </p:nvSpPr>
        <p:spPr>
          <a:xfrm>
            <a:off x="1112760" y="533520"/>
            <a:ext cx="684360" cy="1003320"/>
          </a:xfrm>
          <a:custGeom>
            <a:avLst/>
            <a:gdLst>
              <a:gd name="textAreaLeft" fmla="*/ 0 w 684360"/>
              <a:gd name="textAreaRight" fmla="*/ 684720 w 6843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31" h="632">
                <a:moveTo>
                  <a:pt x="0" y="632"/>
                </a:moveTo>
                <a:cubicBezTo>
                  <a:pt x="10" y="612"/>
                  <a:pt x="25" y="595"/>
                  <a:pt x="34" y="574"/>
                </a:cubicBezTo>
                <a:cubicBezTo>
                  <a:pt x="63" y="507"/>
                  <a:pt x="30" y="538"/>
                  <a:pt x="75" y="507"/>
                </a:cubicBezTo>
                <a:cubicBezTo>
                  <a:pt x="120" y="441"/>
                  <a:pt x="148" y="359"/>
                  <a:pt x="201" y="298"/>
                </a:cubicBezTo>
                <a:cubicBezTo>
                  <a:pt x="235" y="258"/>
                  <a:pt x="272" y="219"/>
                  <a:pt x="309" y="182"/>
                </a:cubicBezTo>
                <a:cubicBezTo>
                  <a:pt x="337" y="154"/>
                  <a:pt x="354" y="113"/>
                  <a:pt x="376" y="81"/>
                </a:cubicBezTo>
                <a:cubicBezTo>
                  <a:pt x="431" y="0"/>
                  <a:pt x="383" y="93"/>
                  <a:pt x="409" y="4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5508720" y="0"/>
            <a:ext cx="3635280" cy="61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et 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fending   Xs    GK 3-2-1  (6) Attacking    Os    T – 1-3-2 (6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aching position near O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a Prime Target Area (P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The Start Point N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&amp; O3 complete a take in midfield but on the left side to draw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passes quickly to O4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            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5" name="Line 6"/>
          <p:cNvSpPr/>
          <p:nvPr/>
        </p:nvSpPr>
        <p:spPr>
          <a:xfrm flipH="1" flipV="1">
            <a:off x="1402920" y="3284280"/>
            <a:ext cx="1297080" cy="14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2411280" y="3284640"/>
            <a:ext cx="287640" cy="304560"/>
          </a:xfrm>
          <a:prstGeom prst="rect">
            <a:avLst/>
          </a:prstGeom>
          <a:ln w="0">
            <a:noFill/>
          </a:ln>
        </p:spPr>
      </p:pic>
      <p:sp>
        <p:nvSpPr>
          <p:cNvPr id="237" name="Line 8"/>
          <p:cNvSpPr/>
          <p:nvPr/>
        </p:nvSpPr>
        <p:spPr>
          <a:xfrm>
            <a:off x="1763640" y="3573360"/>
            <a:ext cx="122400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3276720" y="3645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58920" y="549360"/>
            <a:ext cx="649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P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508720" y="115920"/>
            <a:ext cx="363528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1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and immediately crosses the ball behind X1 &amp; X2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creates space to receive the b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low curling pass behind X1 &amp; X2 which eliminates the keep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 with O3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6" name="Line 6"/>
          <p:cNvSpPr/>
          <p:nvPr/>
        </p:nvSpPr>
        <p:spPr>
          <a:xfrm flipH="1" flipV="1">
            <a:off x="2195280" y="2707920"/>
            <a:ext cx="21564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5003640" y="220500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9" descr="450px-Football_(soccer_ball)"/>
          <p:cNvPicPr/>
          <p:nvPr/>
        </p:nvPicPr>
        <p:blipFill>
          <a:blip r:embed="rId1"/>
          <a:stretch/>
        </p:blipFill>
        <p:spPr>
          <a:xfrm>
            <a:off x="4859280" y="191628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14"/>
          <p:cNvSpPr/>
          <p:nvPr/>
        </p:nvSpPr>
        <p:spPr>
          <a:xfrm flipH="1" flipV="1">
            <a:off x="1403280" y="1628280"/>
            <a:ext cx="338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Freeform 15"/>
          <p:cNvSpPr/>
          <p:nvPr/>
        </p:nvSpPr>
        <p:spPr>
          <a:xfrm>
            <a:off x="1908000" y="1989000"/>
            <a:ext cx="1033560" cy="51624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526" h="259">
                <a:moveTo>
                  <a:pt x="526" y="175"/>
                </a:moveTo>
                <a:cubicBezTo>
                  <a:pt x="490" y="231"/>
                  <a:pt x="436" y="243"/>
                  <a:pt x="376" y="259"/>
                </a:cubicBezTo>
                <a:cubicBezTo>
                  <a:pt x="326" y="256"/>
                  <a:pt x="276" y="256"/>
                  <a:pt x="226" y="250"/>
                </a:cubicBezTo>
                <a:cubicBezTo>
                  <a:pt x="209" y="248"/>
                  <a:pt x="176" y="234"/>
                  <a:pt x="176" y="234"/>
                </a:cubicBezTo>
                <a:cubicBezTo>
                  <a:pt x="152" y="210"/>
                  <a:pt x="137" y="186"/>
                  <a:pt x="109" y="167"/>
                </a:cubicBezTo>
                <a:cubicBezTo>
                  <a:pt x="88" y="110"/>
                  <a:pt x="117" y="177"/>
                  <a:pt x="75" y="117"/>
                </a:cubicBezTo>
                <a:cubicBezTo>
                  <a:pt x="52" y="84"/>
                  <a:pt x="53" y="65"/>
                  <a:pt x="17" y="42"/>
                </a:cubicBezTo>
                <a:cubicBezTo>
                  <a:pt x="7" y="11"/>
                  <a:pt x="13" y="25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6"/>
          <p:cNvSpPr/>
          <p:nvPr/>
        </p:nvSpPr>
        <p:spPr>
          <a:xfrm flipV="1">
            <a:off x="1908000" y="90756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116000" y="981000"/>
            <a:ext cx="71280" cy="1008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4643280" y="3645000"/>
            <a:ext cx="3603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Delivery from the wide play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on X3 and crosses the bal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beats X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 executing a cross 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95280" y="0"/>
            <a:ext cx="5040360" cy="63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1" name="Line 6"/>
          <p:cNvSpPr/>
          <p:nvPr/>
        </p:nvSpPr>
        <p:spPr>
          <a:xfrm flipH="1" flipV="1">
            <a:off x="2050920" y="2204640"/>
            <a:ext cx="2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8" descr="450px-Football_(soccer_ball)"/>
          <p:cNvPicPr/>
          <p:nvPr/>
        </p:nvPicPr>
        <p:blipFill>
          <a:blip r:embed="rId1"/>
          <a:stretch/>
        </p:blipFill>
        <p:spPr>
          <a:xfrm>
            <a:off x="4716360" y="112536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WordArt 10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12"/>
          <p:cNvSpPr/>
          <p:nvPr/>
        </p:nvSpPr>
        <p:spPr>
          <a:xfrm flipH="1" flipV="1">
            <a:off x="2050560" y="836280"/>
            <a:ext cx="259236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1403280" y="549000"/>
            <a:ext cx="720720" cy="86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16"/>
          <p:cNvSpPr/>
          <p:nvPr/>
        </p:nvSpPr>
        <p:spPr>
          <a:xfrm flipV="1">
            <a:off x="4643280" y="2565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Freeform 17"/>
          <p:cNvSpPr/>
          <p:nvPr/>
        </p:nvSpPr>
        <p:spPr>
          <a:xfrm>
            <a:off x="1125360" y="542880"/>
            <a:ext cx="1776600" cy="130176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X3 into the corner and sets o1 fro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takes X3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1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the cross beats the first defender X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reshape ready to attack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95280" y="0"/>
            <a:ext cx="50403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1979640" y="3716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73" name="Line 6"/>
          <p:cNvSpPr/>
          <p:nvPr/>
        </p:nvSpPr>
        <p:spPr>
          <a:xfrm flipH="1" flipV="1">
            <a:off x="2050920" y="1267920"/>
            <a:ext cx="216000" cy="576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500720" y="1413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75" name="WordArt 8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6" name="Line 10"/>
          <p:cNvSpPr/>
          <p:nvPr/>
        </p:nvSpPr>
        <p:spPr>
          <a:xfrm flipH="1" flipV="1">
            <a:off x="2050560" y="836280"/>
            <a:ext cx="24498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1403280" y="476280"/>
            <a:ext cx="432000" cy="387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2"/>
          <p:cNvSpPr/>
          <p:nvPr/>
        </p:nvSpPr>
        <p:spPr>
          <a:xfrm flipH="1" flipV="1">
            <a:off x="2268000" y="2636640"/>
            <a:ext cx="862200" cy="21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Freeform 13"/>
          <p:cNvSpPr/>
          <p:nvPr/>
        </p:nvSpPr>
        <p:spPr>
          <a:xfrm>
            <a:off x="1116000" y="476280"/>
            <a:ext cx="1631880" cy="582480"/>
          </a:xfrm>
          <a:custGeom>
            <a:avLst/>
            <a:gdLst>
              <a:gd name="textAreaLeft" fmla="*/ 0 w 1631880"/>
              <a:gd name="textAreaRight" fmla="*/ 1632240 w 163188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4788000" y="907920"/>
            <a:ext cx="71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508720" y="259920"/>
            <a:ext cx="3456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NISHING FROM CRO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900000" y="333360"/>
            <a:ext cx="37432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 attack is only as good as the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Myerscough</cp:lastModifiedBy>
  <dcterms:modified xsi:type="dcterms:W3CDTF">2010-03-25T22:25:06Z</dcterms:modified>
  <cp:revision>222</cp:revision>
  <dc:subject/>
  <dc:title>Slide 1</dc:title>
</cp:coreProperties>
</file>