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F734-4455-411E-A0B8-B1C08829C7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6277-9AB6-4319-9442-BBDD9C2001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D293-1FD4-42AB-8DFE-6D1DC0280A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AD4A-9BB4-448C-9D15-874BDABD34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A19C-36C1-4D5D-B4ED-3693C17DE1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4CB9-43ED-4DBA-B6EA-1F2D333C27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86EE-0920-4592-9800-1945AB0011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9B857-22EF-446C-BDA2-124BA450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43990-D233-460F-8254-B15D684A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99B2F-BC95-4F8E-A4A6-01C63CB0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19792-A63B-4CD5-A9AA-D7F2C1DA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F8590-DEC1-48F1-801F-9CC22719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A7A30-D061-4020-BCB8-ED34442A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A5CF1-B7DD-4593-9569-F402DC1C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D74CA-6ECF-4FED-9EF8-FEEFD820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B14FA-94D1-48B5-A726-1AD4AEDA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058F0-5EC2-43CC-8679-164FCAA5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04328-B8C7-4B52-944E-F0CE79CC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1578C-F0CA-42D2-A713-A6611A5A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39C79-EEBA-47F6-8A7A-94A17774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3F1AB-3FDE-4A1E-84E5-43C28391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8C24D-9E61-4D0F-8F3E-59FE965B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32C40-9C42-48CC-AF9D-B63E095B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4AF19-B80A-4720-8D69-25D2800D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5FD78-2A86-4A5C-B473-C223C3D0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54222-4FDB-4E80-AA34-FBDAB1BE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E0B2D-7202-46B4-9A5D-26097ADB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1D8BF-261C-4E6D-9C5C-8211CCA4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AAE78-8642-40AF-A48C-078B07A3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DAB0A-4DF4-472A-8A2E-E1214E0B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5A06E-DFBD-46E8-B5E4-9389DD77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BLANK PITCH"/>
          <p:cNvPicPr/>
          <p:nvPr/>
        </p:nvPicPr>
        <p:blipFill>
          <a:blip r:embed="rId2">
            <a:lum bright="46000"/>
          </a:blip>
          <a:srcRect l="29885" t="0" r="427" b="0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9" descr="http://www.tv-geisenfeld-la.de/assets/images/sprinter.gif"/>
          <p:cNvPicPr/>
          <p:nvPr/>
        </p:nvPicPr>
        <p:blipFill>
          <a:blip r:embed="rId3"/>
          <a:stretch/>
        </p:blipFill>
        <p:spPr>
          <a:xfrm>
            <a:off x="8532720" y="6093000"/>
            <a:ext cx="398520" cy="6206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179280" y="5589720"/>
            <a:ext cx="237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b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Line 12"/>
          <p:cNvSpPr/>
          <p:nvPr/>
        </p:nvSpPr>
        <p:spPr>
          <a:xfrm>
            <a:off x="2268360" y="580536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3"/>
          <p:cNvSpPr/>
          <p:nvPr/>
        </p:nvSpPr>
        <p:spPr>
          <a:xfrm>
            <a:off x="2124000" y="6093000"/>
            <a:ext cx="266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Line 14"/>
          <p:cNvSpPr/>
          <p:nvPr/>
        </p:nvSpPr>
        <p:spPr>
          <a:xfrm>
            <a:off x="0" y="4581360"/>
            <a:ext cx="52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Line 15"/>
          <p:cNvSpPr/>
          <p:nvPr/>
        </p:nvSpPr>
        <p:spPr>
          <a:xfrm>
            <a:off x="971640" y="333360"/>
            <a:ext cx="0" cy="42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9"/>
          <p:cNvSpPr/>
          <p:nvPr/>
        </p:nvSpPr>
        <p:spPr>
          <a:xfrm>
            <a:off x="7740720" y="6453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Verdana"/>
              </a:rPr>
              <a:t>PSC UK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" name="Picture 21" descr="http://www.google.co.uk/url?source=imgres&amp;ct=img&amp;q=http://www.easyhealth.org.uk/cmsimages/COPYRIGHT_585.gif&amp;usg=AFQjCNGjSoMfgFvm_ISHPRkTjJagrhcixw"/>
          <p:cNvPicPr/>
          <p:nvPr/>
        </p:nvPicPr>
        <p:blipFill>
          <a:blip r:embed="rId4"/>
          <a:srcRect l="12178" t="8676" r="13115" b="9132"/>
          <a:stretch/>
        </p:blipFill>
        <p:spPr>
          <a:xfrm>
            <a:off x="8748720" y="6524640"/>
            <a:ext cx="114120" cy="1285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2" descr="450px-Football_(soccer_ball)"/>
          <p:cNvPicPr/>
          <p:nvPr/>
        </p:nvPicPr>
        <p:blipFill>
          <a:blip r:embed="rId5"/>
          <a:stretch/>
        </p:blipFill>
        <p:spPr>
          <a:xfrm>
            <a:off x="4500720" y="472428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450px-Football_(soccer_ball)"/>
          <p:cNvPicPr/>
          <p:nvPr/>
        </p:nvPicPr>
        <p:blipFill>
          <a:blip r:embed="rId6"/>
          <a:stretch/>
        </p:blipFill>
        <p:spPr>
          <a:xfrm>
            <a:off x="4716360" y="508464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4" descr="450px-Football_(soccer_ball)"/>
          <p:cNvPicPr/>
          <p:nvPr/>
        </p:nvPicPr>
        <p:blipFill>
          <a:blip r:embed="rId7"/>
          <a:stretch/>
        </p:blipFill>
        <p:spPr>
          <a:xfrm>
            <a:off x="4859280" y="4724280"/>
            <a:ext cx="28728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DAF3-67E5-47AE-8292-3D8FBB15DF68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171" name="Picture 46" descr="BLANK PITCH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D46C-76AD-48F6-94FE-A277A0C9704D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724360" y="404640"/>
            <a:ext cx="34196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ATTACKING FROM CRO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1692360" y="4797360"/>
            <a:ext cx="180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324000" y="476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5508720" y="1628640"/>
            <a:ext cx="363528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igned to develop the understanding of a unit such as strikers and midfield players on their responsibility to attack crosses delivered with pace and into dangerous are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to coach the team on primary, secondary and fringe players engaging all player in the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2411280" y="5805360"/>
            <a:ext cx="23050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179280" y="558972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th of the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38"/>
          <p:cNvSpPr/>
          <p:nvPr/>
        </p:nvSpPr>
        <p:spPr>
          <a:xfrm>
            <a:off x="1547640" y="1557360"/>
            <a:ext cx="3600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eate the Opportunity to cross the ba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ime Target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nd Prod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39"/>
          <p:cNvSpPr/>
          <p:nvPr/>
        </p:nvSpPr>
        <p:spPr>
          <a:xfrm flipH="1" flipV="1">
            <a:off x="1258560" y="692280"/>
            <a:ext cx="3816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Freeform 41"/>
          <p:cNvSpPr/>
          <p:nvPr/>
        </p:nvSpPr>
        <p:spPr>
          <a:xfrm>
            <a:off x="1116000" y="549360"/>
            <a:ext cx="1046160" cy="954000"/>
          </a:xfrm>
          <a:custGeom>
            <a:avLst/>
            <a:gdLst>
              <a:gd name="textAreaLeft" fmla="*/ 0 w 1046160"/>
              <a:gd name="textAreaRight" fmla="*/ 1046520 w 104616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659" h="601">
                <a:moveTo>
                  <a:pt x="659" y="601"/>
                </a:moveTo>
                <a:cubicBezTo>
                  <a:pt x="652" y="601"/>
                  <a:pt x="551" y="599"/>
                  <a:pt x="518" y="585"/>
                </a:cubicBezTo>
                <a:cubicBezTo>
                  <a:pt x="508" y="581"/>
                  <a:pt x="501" y="573"/>
                  <a:pt x="492" y="568"/>
                </a:cubicBezTo>
                <a:cubicBezTo>
                  <a:pt x="428" y="537"/>
                  <a:pt x="351" y="523"/>
                  <a:pt x="284" y="501"/>
                </a:cubicBezTo>
                <a:cubicBezTo>
                  <a:pt x="265" y="488"/>
                  <a:pt x="242" y="482"/>
                  <a:pt x="225" y="468"/>
                </a:cubicBezTo>
                <a:cubicBezTo>
                  <a:pt x="217" y="462"/>
                  <a:pt x="216" y="450"/>
                  <a:pt x="209" y="443"/>
                </a:cubicBezTo>
                <a:cubicBezTo>
                  <a:pt x="156" y="389"/>
                  <a:pt x="213" y="469"/>
                  <a:pt x="159" y="401"/>
                </a:cubicBezTo>
                <a:cubicBezTo>
                  <a:pt x="101" y="327"/>
                  <a:pt x="152" y="372"/>
                  <a:pt x="92" y="326"/>
                </a:cubicBezTo>
                <a:cubicBezTo>
                  <a:pt x="55" y="222"/>
                  <a:pt x="0" y="113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Freeform 43"/>
          <p:cNvSpPr/>
          <p:nvPr/>
        </p:nvSpPr>
        <p:spPr>
          <a:xfrm>
            <a:off x="1112760" y="533520"/>
            <a:ext cx="684360" cy="1003320"/>
          </a:xfrm>
          <a:custGeom>
            <a:avLst/>
            <a:gdLst>
              <a:gd name="textAreaLeft" fmla="*/ 0 w 684360"/>
              <a:gd name="textAreaRight" fmla="*/ 684720 w 68436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31" h="632">
                <a:moveTo>
                  <a:pt x="0" y="632"/>
                </a:moveTo>
                <a:cubicBezTo>
                  <a:pt x="10" y="612"/>
                  <a:pt x="25" y="595"/>
                  <a:pt x="34" y="574"/>
                </a:cubicBezTo>
                <a:cubicBezTo>
                  <a:pt x="63" y="507"/>
                  <a:pt x="30" y="538"/>
                  <a:pt x="75" y="507"/>
                </a:cubicBezTo>
                <a:cubicBezTo>
                  <a:pt x="120" y="441"/>
                  <a:pt x="148" y="359"/>
                  <a:pt x="201" y="298"/>
                </a:cubicBezTo>
                <a:cubicBezTo>
                  <a:pt x="235" y="258"/>
                  <a:pt x="272" y="219"/>
                  <a:pt x="309" y="182"/>
                </a:cubicBezTo>
                <a:cubicBezTo>
                  <a:pt x="337" y="154"/>
                  <a:pt x="354" y="113"/>
                  <a:pt x="376" y="81"/>
                </a:cubicBezTo>
                <a:cubicBezTo>
                  <a:pt x="431" y="0"/>
                  <a:pt x="383" y="93"/>
                  <a:pt x="409" y="4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5508720" y="0"/>
            <a:ext cx="3635280" cy="61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I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Set 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fending   Xs    GK 3-2-1  (6) Attacking    Os    T – 1-3-2 (6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Organis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 target player (T) can be used for both teams to recycle the ball and keep the game flowing, the defending team can score by passing to the target pla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rea coned off 2 yards outside far post to eliminate Right Back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et up in the middle 1/3 of the  pitch to attack the final third straight a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aching position near O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et up a Prime Target Area (P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The Start Point No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&amp; O3 complete a take in midfield but on the left side to draw defend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3 passes quickly to O4 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creates space to receive and tu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95280" y="0"/>
            <a:ext cx="5040360" cy="68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 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X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X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            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1908000" y="4724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5" name="Line 6"/>
          <p:cNvSpPr/>
          <p:nvPr/>
        </p:nvSpPr>
        <p:spPr>
          <a:xfrm flipH="1" flipV="1">
            <a:off x="1402920" y="3284280"/>
            <a:ext cx="1297080" cy="144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2411280" y="3284640"/>
            <a:ext cx="287640" cy="304560"/>
          </a:xfrm>
          <a:prstGeom prst="rect">
            <a:avLst/>
          </a:prstGeom>
          <a:ln w="0">
            <a:noFill/>
          </a:ln>
        </p:spPr>
      </p:pic>
      <p:sp>
        <p:nvSpPr>
          <p:cNvPr id="237" name="Line 8"/>
          <p:cNvSpPr/>
          <p:nvPr/>
        </p:nvSpPr>
        <p:spPr>
          <a:xfrm>
            <a:off x="1763640" y="3573360"/>
            <a:ext cx="1224000" cy="287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9" descr="450px-Football_(soccer_ball)"/>
          <p:cNvPicPr/>
          <p:nvPr/>
        </p:nvPicPr>
        <p:blipFill>
          <a:blip r:embed="rId2"/>
          <a:stretch/>
        </p:blipFill>
        <p:spPr>
          <a:xfrm>
            <a:off x="3276720" y="364500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39" name="Line 10"/>
          <p:cNvSpPr/>
          <p:nvPr/>
        </p:nvSpPr>
        <p:spPr>
          <a:xfrm flipV="1">
            <a:off x="3635280" y="2707920"/>
            <a:ext cx="1152720" cy="86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WordArt 11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58920" y="549360"/>
            <a:ext cx="649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P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508720" y="115920"/>
            <a:ext cx="363528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Picture/Scenario No1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arly Ball in Behind defend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receives the ball and immediately crosses the ball behind X1 &amp; X2 before X3 can recov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creates space to receive the bal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executes a low curling pass behind X1 &amp; X2 which eliminates the keep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5 &amp; O6 move off the shoulder to attacking posi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ront and far post runs across defenders to execute an end produ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  with O3 Holding r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95280" y="0"/>
            <a:ext cx="5040360" cy="68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 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X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X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WordArt 5"/>
          <p:cNvSpPr txBox="1"/>
          <p:nvPr/>
        </p:nvSpPr>
        <p:spPr>
          <a:xfrm>
            <a:off x="1908000" y="4724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6" name="Line 6"/>
          <p:cNvSpPr/>
          <p:nvPr/>
        </p:nvSpPr>
        <p:spPr>
          <a:xfrm flipH="1" flipV="1">
            <a:off x="2195280" y="2707920"/>
            <a:ext cx="21564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8"/>
          <p:cNvSpPr/>
          <p:nvPr/>
        </p:nvSpPr>
        <p:spPr>
          <a:xfrm flipV="1">
            <a:off x="5003640" y="220500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9" descr="450px-Football_(soccer_ball)"/>
          <p:cNvPicPr/>
          <p:nvPr/>
        </p:nvPicPr>
        <p:blipFill>
          <a:blip r:embed="rId1"/>
          <a:stretch/>
        </p:blipFill>
        <p:spPr>
          <a:xfrm>
            <a:off x="4859280" y="191628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49" name="Line 10"/>
          <p:cNvSpPr/>
          <p:nvPr/>
        </p:nvSpPr>
        <p:spPr>
          <a:xfrm flipV="1">
            <a:off x="3635280" y="2707920"/>
            <a:ext cx="1152720" cy="86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WordArt 11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187280" y="620640"/>
            <a:ext cx="8636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14"/>
          <p:cNvSpPr/>
          <p:nvPr/>
        </p:nvSpPr>
        <p:spPr>
          <a:xfrm flipH="1" flipV="1">
            <a:off x="1403280" y="1628280"/>
            <a:ext cx="338472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Freeform 15"/>
          <p:cNvSpPr/>
          <p:nvPr/>
        </p:nvSpPr>
        <p:spPr>
          <a:xfrm>
            <a:off x="1908000" y="1989000"/>
            <a:ext cx="1033560" cy="516240"/>
          </a:xfrm>
          <a:custGeom>
            <a:avLst/>
            <a:gdLst>
              <a:gd name="textAreaLeft" fmla="*/ 0 w 1033560"/>
              <a:gd name="textAreaRight" fmla="*/ 1033920 w 103356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526" h="259">
                <a:moveTo>
                  <a:pt x="526" y="175"/>
                </a:moveTo>
                <a:cubicBezTo>
                  <a:pt x="490" y="231"/>
                  <a:pt x="436" y="243"/>
                  <a:pt x="376" y="259"/>
                </a:cubicBezTo>
                <a:cubicBezTo>
                  <a:pt x="326" y="256"/>
                  <a:pt x="276" y="256"/>
                  <a:pt x="226" y="250"/>
                </a:cubicBezTo>
                <a:cubicBezTo>
                  <a:pt x="209" y="248"/>
                  <a:pt x="176" y="234"/>
                  <a:pt x="176" y="234"/>
                </a:cubicBezTo>
                <a:cubicBezTo>
                  <a:pt x="152" y="210"/>
                  <a:pt x="137" y="186"/>
                  <a:pt x="109" y="167"/>
                </a:cubicBezTo>
                <a:cubicBezTo>
                  <a:pt x="88" y="110"/>
                  <a:pt x="117" y="177"/>
                  <a:pt x="75" y="117"/>
                </a:cubicBezTo>
                <a:cubicBezTo>
                  <a:pt x="52" y="84"/>
                  <a:pt x="53" y="65"/>
                  <a:pt x="17" y="42"/>
                </a:cubicBezTo>
                <a:cubicBezTo>
                  <a:pt x="7" y="11"/>
                  <a:pt x="13" y="25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16"/>
          <p:cNvSpPr/>
          <p:nvPr/>
        </p:nvSpPr>
        <p:spPr>
          <a:xfrm flipV="1">
            <a:off x="1908000" y="907560"/>
            <a:ext cx="0" cy="1008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1116000" y="981000"/>
            <a:ext cx="71280" cy="1008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18"/>
          <p:cNvSpPr/>
          <p:nvPr/>
        </p:nvSpPr>
        <p:spPr>
          <a:xfrm flipV="1">
            <a:off x="4643280" y="3645000"/>
            <a:ext cx="3603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5508720" y="189000"/>
            <a:ext cx="363528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I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Picture/Scenario No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Delivery from the wide play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receives the ball takes on X3 and crosses the ball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imary 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beats X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executes a cross into the PTA with pace and just above knee hei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econdary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5 &amp; O6 move off the shoulder to attacking positions executing a cross ov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attacks ne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5 attacks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ringe Play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s and O3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95280" y="0"/>
            <a:ext cx="5040360" cy="63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X3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X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WordArt 5"/>
          <p:cNvSpPr txBox="1"/>
          <p:nvPr/>
        </p:nvSpPr>
        <p:spPr>
          <a:xfrm>
            <a:off x="1908000" y="4724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1" name="Line 6"/>
          <p:cNvSpPr/>
          <p:nvPr/>
        </p:nvSpPr>
        <p:spPr>
          <a:xfrm flipH="1" flipV="1">
            <a:off x="2050920" y="2204640"/>
            <a:ext cx="21600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8" descr="450px-Football_(soccer_ball)"/>
          <p:cNvPicPr/>
          <p:nvPr/>
        </p:nvPicPr>
        <p:blipFill>
          <a:blip r:embed="rId1"/>
          <a:stretch/>
        </p:blipFill>
        <p:spPr>
          <a:xfrm>
            <a:off x="4716360" y="1125360"/>
            <a:ext cx="287280" cy="304920"/>
          </a:xfrm>
          <a:prstGeom prst="rect">
            <a:avLst/>
          </a:prstGeom>
          <a:ln w="0">
            <a:noFill/>
          </a:ln>
        </p:spPr>
      </p:pic>
      <p:sp>
        <p:nvSpPr>
          <p:cNvPr id="263" name="WordArt 10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1187280" y="620640"/>
            <a:ext cx="8636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12"/>
          <p:cNvSpPr/>
          <p:nvPr/>
        </p:nvSpPr>
        <p:spPr>
          <a:xfrm flipH="1" flipV="1">
            <a:off x="2050560" y="836280"/>
            <a:ext cx="259236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15"/>
          <p:cNvSpPr/>
          <p:nvPr/>
        </p:nvSpPr>
        <p:spPr>
          <a:xfrm flipV="1">
            <a:off x="1403280" y="549000"/>
            <a:ext cx="720720" cy="863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Line 16"/>
          <p:cNvSpPr/>
          <p:nvPr/>
        </p:nvSpPr>
        <p:spPr>
          <a:xfrm flipV="1">
            <a:off x="4643280" y="2565360"/>
            <a:ext cx="36036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Freeform 17"/>
          <p:cNvSpPr/>
          <p:nvPr/>
        </p:nvSpPr>
        <p:spPr>
          <a:xfrm>
            <a:off x="1125360" y="542880"/>
            <a:ext cx="1776600" cy="1301760"/>
          </a:xfrm>
          <a:custGeom>
            <a:avLst/>
            <a:gdLst>
              <a:gd name="textAreaLeft" fmla="*/ 0 w 1776600"/>
              <a:gd name="textAreaRight" fmla="*/ 1776960 w 177660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1119" h="919">
                <a:moveTo>
                  <a:pt x="1119" y="793"/>
                </a:moveTo>
                <a:cubicBezTo>
                  <a:pt x="1076" y="822"/>
                  <a:pt x="1021" y="865"/>
                  <a:pt x="969" y="877"/>
                </a:cubicBezTo>
                <a:cubicBezTo>
                  <a:pt x="900" y="893"/>
                  <a:pt x="827" y="895"/>
                  <a:pt x="760" y="919"/>
                </a:cubicBezTo>
                <a:cubicBezTo>
                  <a:pt x="612" y="913"/>
                  <a:pt x="480" y="897"/>
                  <a:pt x="334" y="885"/>
                </a:cubicBezTo>
                <a:cubicBezTo>
                  <a:pt x="326" y="882"/>
                  <a:pt x="317" y="879"/>
                  <a:pt x="309" y="877"/>
                </a:cubicBezTo>
                <a:cubicBezTo>
                  <a:pt x="298" y="874"/>
                  <a:pt x="287" y="871"/>
                  <a:pt x="276" y="868"/>
                </a:cubicBezTo>
                <a:cubicBezTo>
                  <a:pt x="259" y="863"/>
                  <a:pt x="226" y="852"/>
                  <a:pt x="226" y="852"/>
                </a:cubicBezTo>
                <a:cubicBezTo>
                  <a:pt x="186" y="825"/>
                  <a:pt x="143" y="813"/>
                  <a:pt x="101" y="785"/>
                </a:cubicBezTo>
                <a:cubicBezTo>
                  <a:pt x="93" y="779"/>
                  <a:pt x="84" y="774"/>
                  <a:pt x="76" y="768"/>
                </a:cubicBezTo>
                <a:cubicBezTo>
                  <a:pt x="68" y="763"/>
                  <a:pt x="51" y="752"/>
                  <a:pt x="51" y="752"/>
                </a:cubicBezTo>
                <a:cubicBezTo>
                  <a:pt x="34" y="727"/>
                  <a:pt x="27" y="704"/>
                  <a:pt x="17" y="676"/>
                </a:cubicBezTo>
                <a:cubicBezTo>
                  <a:pt x="8" y="521"/>
                  <a:pt x="0" y="394"/>
                  <a:pt x="9" y="234"/>
                </a:cubicBezTo>
                <a:cubicBezTo>
                  <a:pt x="12" y="187"/>
                  <a:pt x="34" y="142"/>
                  <a:pt x="51" y="100"/>
                </a:cubicBezTo>
                <a:cubicBezTo>
                  <a:pt x="61" y="75"/>
                  <a:pt x="68" y="50"/>
                  <a:pt x="76" y="25"/>
                </a:cubicBezTo>
                <a:cubicBezTo>
                  <a:pt x="79" y="17"/>
                  <a:pt x="84" y="0"/>
                  <a:pt x="84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508720" y="189000"/>
            <a:ext cx="363528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INISHING FROM CR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Picture/Scenario No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Cross from set to O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4 receives the ball takes X3 into the corner and sets o1 fro the cro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Coach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4 takes X3 a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1 executes a cross into the PTA with pace and just above knee hei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the cross beats the first defender X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O5 &amp; O6 reshape ready to attack the cro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6 attacks ne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5 attacks far p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nd produ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2 Suppor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3 Hol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95280" y="162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395280" y="0"/>
            <a:ext cx="50403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G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6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X1  X2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X3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5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4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02                          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X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3 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WordArt 5"/>
          <p:cNvSpPr txBox="1"/>
          <p:nvPr/>
        </p:nvSpPr>
        <p:spPr>
          <a:xfrm>
            <a:off x="1979640" y="371628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ar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73" name="Line 6"/>
          <p:cNvSpPr/>
          <p:nvPr/>
        </p:nvSpPr>
        <p:spPr>
          <a:xfrm flipH="1" flipV="1">
            <a:off x="2050920" y="1267920"/>
            <a:ext cx="216000" cy="576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7" descr="450px-Football_(soccer_ball)"/>
          <p:cNvPicPr/>
          <p:nvPr/>
        </p:nvPicPr>
        <p:blipFill>
          <a:blip r:embed="rId1"/>
          <a:stretch/>
        </p:blipFill>
        <p:spPr>
          <a:xfrm>
            <a:off x="4500720" y="141300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275" name="WordArt 8"/>
          <p:cNvSpPr txBox="1"/>
          <p:nvPr/>
        </p:nvSpPr>
        <p:spPr>
          <a:xfrm>
            <a:off x="5292720" y="1773360"/>
            <a:ext cx="176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6" name="Line 10"/>
          <p:cNvSpPr/>
          <p:nvPr/>
        </p:nvSpPr>
        <p:spPr>
          <a:xfrm flipH="1" flipV="1">
            <a:off x="2050560" y="836280"/>
            <a:ext cx="244980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11"/>
          <p:cNvSpPr/>
          <p:nvPr/>
        </p:nvSpPr>
        <p:spPr>
          <a:xfrm flipV="1">
            <a:off x="1403280" y="476280"/>
            <a:ext cx="432000" cy="387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2"/>
          <p:cNvSpPr/>
          <p:nvPr/>
        </p:nvSpPr>
        <p:spPr>
          <a:xfrm flipH="1" flipV="1">
            <a:off x="2268000" y="2636640"/>
            <a:ext cx="862200" cy="21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Freeform 13"/>
          <p:cNvSpPr/>
          <p:nvPr/>
        </p:nvSpPr>
        <p:spPr>
          <a:xfrm>
            <a:off x="1116000" y="476280"/>
            <a:ext cx="1631880" cy="582480"/>
          </a:xfrm>
          <a:custGeom>
            <a:avLst/>
            <a:gdLst>
              <a:gd name="textAreaLeft" fmla="*/ 0 w 1631880"/>
              <a:gd name="textAreaRight" fmla="*/ 1632240 w 163188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1119" h="919">
                <a:moveTo>
                  <a:pt x="1119" y="793"/>
                </a:moveTo>
                <a:cubicBezTo>
                  <a:pt x="1076" y="822"/>
                  <a:pt x="1021" y="865"/>
                  <a:pt x="969" y="877"/>
                </a:cubicBezTo>
                <a:cubicBezTo>
                  <a:pt x="900" y="893"/>
                  <a:pt x="827" y="895"/>
                  <a:pt x="760" y="919"/>
                </a:cubicBezTo>
                <a:cubicBezTo>
                  <a:pt x="612" y="913"/>
                  <a:pt x="480" y="897"/>
                  <a:pt x="334" y="885"/>
                </a:cubicBezTo>
                <a:cubicBezTo>
                  <a:pt x="326" y="882"/>
                  <a:pt x="317" y="879"/>
                  <a:pt x="309" y="877"/>
                </a:cubicBezTo>
                <a:cubicBezTo>
                  <a:pt x="298" y="874"/>
                  <a:pt x="287" y="871"/>
                  <a:pt x="276" y="868"/>
                </a:cubicBezTo>
                <a:cubicBezTo>
                  <a:pt x="259" y="863"/>
                  <a:pt x="226" y="852"/>
                  <a:pt x="226" y="852"/>
                </a:cubicBezTo>
                <a:cubicBezTo>
                  <a:pt x="186" y="825"/>
                  <a:pt x="143" y="813"/>
                  <a:pt x="101" y="785"/>
                </a:cubicBezTo>
                <a:cubicBezTo>
                  <a:pt x="93" y="779"/>
                  <a:pt x="84" y="774"/>
                  <a:pt x="76" y="768"/>
                </a:cubicBezTo>
                <a:cubicBezTo>
                  <a:pt x="68" y="763"/>
                  <a:pt x="51" y="752"/>
                  <a:pt x="51" y="752"/>
                </a:cubicBezTo>
                <a:cubicBezTo>
                  <a:pt x="34" y="727"/>
                  <a:pt x="27" y="704"/>
                  <a:pt x="17" y="676"/>
                </a:cubicBezTo>
                <a:cubicBezTo>
                  <a:pt x="8" y="521"/>
                  <a:pt x="0" y="394"/>
                  <a:pt x="9" y="234"/>
                </a:cubicBezTo>
                <a:cubicBezTo>
                  <a:pt x="12" y="187"/>
                  <a:pt x="34" y="142"/>
                  <a:pt x="51" y="100"/>
                </a:cubicBezTo>
                <a:cubicBezTo>
                  <a:pt x="61" y="75"/>
                  <a:pt x="68" y="50"/>
                  <a:pt x="76" y="25"/>
                </a:cubicBezTo>
                <a:cubicBezTo>
                  <a:pt x="79" y="17"/>
                  <a:pt x="84" y="0"/>
                  <a:pt x="84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4788000" y="907920"/>
            <a:ext cx="7128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508720" y="259920"/>
            <a:ext cx="3456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INISHING FROM CRO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nfirmation o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Do the players understand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deliver a quality cross into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create move to move and confuse defend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to work as unit to attack varying areas in the P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derstand how you must keep cover and bala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ave you the C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ed the right players to execute quality cross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d the right technical information for attackers to achieve success in the sess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aches primary, secondary and fringe play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cted faults???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ned variation of scenari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900000" y="333360"/>
            <a:ext cx="374328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Moment of Ref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he attack is only as good as the cro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You should ensure that the wide players are capable of delivering a quality cro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3:37:13Z</dcterms:created>
  <dc:creator>Jed Starkey</dc:creator>
  <dc:description/>
  <dc:language>en-US</dc:language>
  <cp:lastModifiedBy>Myerscough</cp:lastModifiedBy>
  <dcterms:modified xsi:type="dcterms:W3CDTF">2010-03-25T22:25:06Z</dcterms:modified>
  <cp:revision>222</cp:revision>
  <dc:subject/>
  <dc:title>Slide 1</dc:title>
</cp:coreProperties>
</file>